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1.jpeg" ContentType="image/jpeg"/>
  <Override PartName="/ppt/media/image62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7AE-7BDF-4D16-BBE6-D4023C39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14A-583E-4985-8AA1-24A89702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D90-907B-47F8-B09C-287441A0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C4C-BBB0-4401-AF5E-6EA698D0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39F8-CC25-4904-BBE0-44F4FD1E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70F7-074A-4719-B9CC-D15A1D5A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9C3B-307C-4829-BDF2-6EA557D6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963-2E2A-4A07-877C-F1951457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DD54-EA36-4D20-8CCF-CE0303F3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7D30-1574-434B-B2E1-ADEB71DD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A360-B426-4F3E-801E-2902F8B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B42-31C0-4761-81B2-DCF3CB5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EF78-D673-4FCA-8BC0-5F2F5492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0A1C-51F4-4ECD-B25F-E07794F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FA0B-F78C-40E6-8423-92C0B6E8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5B37-6213-4439-9FB0-01B86368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12FC-9088-4CC2-952E-D6957CE6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808-1A7C-42DF-B449-4E9469EB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D34-B044-4F9B-B146-BF8940FF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5B9-DE43-45AA-B8D2-570FB16A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1B3-53EF-49C0-9FA0-751543E0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45D-E3D4-49FE-9CE4-60F644DD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A7B-34D8-4E1B-A7AF-E82A20C4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6DE-0D20-4031-A759-F76CFE0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9EF1-4CF9-4141-85C7-88DA14C9D1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B95-6884-4E6B-AFF0-40064AE2E73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:/wiki/1935" TargetMode="External"/><Relationship Id="rId2" Type="http://schemas.openxmlformats.org/officeDocument/2006/relationships/hyperlink" Target="file:///F:/wiki/%25D0%25A1%25D0%25BE%25D0%25B1%25D0%25BE%25D0%25BB%25D1%258C" TargetMode="External"/><Relationship Id="rId3" Type="http://schemas.openxmlformats.org/officeDocument/2006/relationships/hyperlink" Target="file:///F:/wiki/%25D0%2590%25D0%25BC%25D1%2583%25D1%2580%25D1%2581%25D0%25BA%25D0%25B8%25D0%25B9_%25D1%2582%25D0%25B8%25D0%25B3%25D1%2580" TargetMode="External"/><Relationship Id="rId4" Type="http://schemas.openxmlformats.org/officeDocument/2006/relationships/hyperlink" Target="file:///F:/wiki/%25D0%2594%25D0%25B0%25D0%25BB%25D1%258C%25D0%25BD%25D0%25B8%25D0%25B9_%25D0%2592%25D0%25BE%25D1%2581%25D1%2582%25D0%25BE%25D0%25BA" TargetMode="External"/><Relationship Id="rId5" Type="http://schemas.openxmlformats.org/officeDocument/2006/relationships/hyperlink" Target="file:///F:/wiki/%25D0%25AE%25D0%259D%25D0%2595%25D0%25A1%25D0%259A%25D0%259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1%2588%25D0%25BC%25D0%25B0%25D1%2587%25D0%25BE%25D0%25BA_%25D0%25BA%25D1%2580%25D1%2583%25D0%25BF%25D0%25BD%25D0%25BE%25D1%2586%25D0%25B2%25D0%25B5%25D1%2582%25D0%25BA%25D0%25BE%25D0%25B2%25D1%258B%25D0%25B9" TargetMode="External"/><Relationship Id="rId2" Type="http://schemas.openxmlformats.org/officeDocument/2006/relationships/hyperlink" Target="file:///F:/wiki/%25D0%2591%25D0%25B0%25D1%2588%25D0%25BC%25D0%25B0%25D1%2587%25D0%25BE%25D0%25BA_%25D0%25BD%25D0%25B0%25D1%2581%25D1%2582%25D0%25BE%25D1%258F%25D1%2589%25D0%25B8%25D0%25B9" TargetMode="External"/><Relationship Id="rId3" Type="http://schemas.openxmlformats.org/officeDocument/2006/relationships/hyperlink" Target="file:///F:/w/index.php%3Ftitle=%25D0%2591%25D0%25BE%25D1%2580%25D0%25BE%25D0%25B4%25D0%25B0%25D1%2582%25D0%25BA%25D0%25B0_%25D1%258F%25D0%25BF%25D0%25BE%25D0%25BD%25D1%2581%25D0%25BA%25D0%25B0%25D1%258F&amp;action=edit&amp;redlink=1" TargetMode="External"/><Relationship Id="rId4" Type="http://schemas.openxmlformats.org/officeDocument/2006/relationships/hyperlink" Target="file:///F:/w/index.php%3Ftitle=%25D0%2591%25D0%25BE%25D1%2580%25D0%25B5%25D1%2586_%25D1%2581%25D0%25B8%25D1%2585%25D0%25BE%25D1%2582%25D0%25B8%25D0%25BD%25D1%2581%25D0%25BA%25D0%25B8%25D0%25B9&amp;action=edit&amp;redlink=1" TargetMode="External"/><Relationship Id="rId5" Type="http://schemas.openxmlformats.org/officeDocument/2006/relationships/hyperlink" Target="file:///F:/w/index.php%3Ftitle=%25D0%2593%25D1%2580%25D1%2583%25D1%2588%25D0%25B0_%25D1%2583%25D1%2581%25D1%2581%25D1%2583%25D1%2580%25D0%25B8%25D0%25B9%25D1%2581%25D0%25BA%25D0%25B0%25D1%258F&amp;action=edit&amp;redlink=1" TargetMode="External"/><Relationship Id="rId6" Type="http://schemas.openxmlformats.org/officeDocument/2006/relationships/hyperlink" Target="file:///F:/wiki/%25D0%2594%25D0%25B8%25D0%25BE%25D1%2581%25D0%25BA%25D0%25BE%25D1%2580%25D0%25B5%25D1%258F_%25D1%258F%25D0%25BF%25D0%25BE%25D0%25BD%25D1%2581%25D0%25BA%25D0%25B0%25D1%258F" TargetMode="External"/><Relationship Id="rId7" Type="http://schemas.openxmlformats.org/officeDocument/2006/relationships/hyperlink" Target="file:///F:/w/index.php%3Ftitle=%25D0%2597%25D0%25B0%25D0%25BC%25D0%25B0%25D0%25BD%25D0%25B8%25D1%2585%25D0%25B0_%25D0%25B2%25D1%258B%25D1%2581%25D0%25BE%25D0%25BA%25D0%25B0%25D1%258F&amp;action=edit&amp;redlink=1" TargetMode="External"/><Relationship Id="rId8" Type="http://schemas.openxmlformats.org/officeDocument/2006/relationships/hyperlink" Target="file:///F:/w/index.php%3Ftitle=%25D0%259A%25D0%25B0%25D1%2581%25D0%25B0%25D1%2582%25D0%25B8%25D0%25BA_%25D0%25BC%25D0%25B5%25D1%2587%25D0%25B5%25D0%25B2%25D0%25B8%25D0%25B4%25D0%25BD%25D1%258B%25D0%25B9&amp;action=edit&amp;redlink=1" TargetMode="External"/><Relationship Id="rId9" Type="http://schemas.openxmlformats.org/officeDocument/2006/relationships/hyperlink" Target="file:///F:/w/index.php%3Ftitle=%25D0%259A%25D0%25BE%25D1%2582%25D0%25BE%25D0%25B2%25D0%25BD%25D0%25B8%25D0%25BA_%25D0%25BC%25D0%25B0%25D0%25BD%25D1%2587%25D1%258C%25D0%25B6%25D1%2583%25D1%2580%25D1%2581%25D0%25BA%25D0%25B8%25D0%25B9&amp;action=edit&amp;redlink=1" TargetMode="External"/><Relationship Id="rId10" Type="http://schemas.openxmlformats.org/officeDocument/2006/relationships/hyperlink" Target="file:///F:/w/index.php%3Ftitle=%25D0%259A%25D1%2583%25D0%25B1%25D1%258B%25D1%2588%25D0%25BA%25D0%25B0_%25D0%25BC%25D0%25B0%25D0%25BB%25D0%25B0%25D1%258F&amp;action=edit&amp;redlink=1" TargetMode="External"/><Relationship Id="rId11" Type="http://schemas.openxmlformats.org/officeDocument/2006/relationships/hyperlink" Target="file:///F:/w/index.php%3Ftitle=%25D0%259A%25D1%2583%25D1%2580%25D0%25B8%25D0%25BB%25D1%258C%25D1%2581%25D0%25BA%25D0%25B8%25D0%25B9_%25D1%2587%25D0%25B0%25D0%25B9_%25D0%25BC%25D0%25B0%25D0%25BD%25D1%258C%25D1%2587%25D0%25B6%25D1%2583%25D1%2580%25D1%2581%25D0%25BA%25D0%25B8%25D0%25B9&amp;action=edit&amp;redlink=1" TargetMode="External"/><Relationship Id="rId12" Type="http://schemas.openxmlformats.org/officeDocument/2006/relationships/hyperlink" Target="file:///F:/w/index.php%3Ftitle=%25D0%259B%25D0%25B8%25D0%25BB%25D0%25B8%25D1%258F_%25D0%25B4%25D0%25B0%25D1%2583%25D1%2580%25D1%2581%25D0%25BA%25D0%25B0%25D1%258F&amp;action=edit&amp;redlink=1" TargetMode="External"/><Relationship Id="rId13" Type="http://schemas.openxmlformats.org/officeDocument/2006/relationships/hyperlink" Target="file:///F:/w/index.php%3Ftitle=%25D0%259B%25D0%25B8%25D0%25BB%25D0%25B8%25D1%258F_%25D0%25B4%25D0%25B2%25D1%2583%25D1%2580%25D1%258F%25D0%25B4%25D0%25BD%25D0%25B0%25D1%258F&amp;action=edit&amp;redlink=1" TargetMode="External"/><Relationship Id="rId14" Type="http://schemas.openxmlformats.org/officeDocument/2006/relationships/hyperlink" Target="file:///F:/wiki/%25D0%259B%25D0%25B8%25D0%25BC%25D0%25BE%25D0%25BD%25D0%25BD%25D0%25B8%25D0%25BA_%25D0%25BA%25D0%25B8%25D1%2582%25D0%25B0%25D0%25B9%25D1%2581%25D0%25BA%25D0%25B8%25D0%25B9" TargetMode="External"/><Relationship Id="rId15" Type="http://schemas.openxmlformats.org/officeDocument/2006/relationships/hyperlink" Target="file:///F:/wiki/%25D0%259B%25D0%25B8%25D1%2581%25D1%2582%25D0%25B2%25D0%25B5%25D0%25BD%25D0%25BD%25D0%25B8%25D1%2586%25D0%25B0_%25D0%25BE%25D0%25BB%25D1%258C%25D0%25B3%25D0%25B8%25D0%25BD%25D1%2581%25D0%25BA%25D0%25B0%25D1%258F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flowersweb.info/images/interesting/karelia/karelia-12.jpg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iki/%25D0%2593%25D0%25BE%25D1%2580%25D0%25B0%25D0%25BB" TargetMode="External"/><Relationship Id="rId4" Type="http://schemas.openxmlformats.org/officeDocument/2006/relationships/hyperlink" Target="file:///F:/wiki/%25D0%259B%25D0%25BE%25D1%2581%25D1%258C" TargetMode="External"/><Relationship Id="rId5" Type="http://schemas.openxmlformats.org/officeDocument/2006/relationships/hyperlink" Target="file:///F:/wiki/%25D0%259F%25D1%258F%25D1%2582%25D0%25BD%25D0%25B8%25D1%2581%25D1%2582%25D1%258B%25D0%25B9_%25D0%25BE%25D0%25BB%25D0%25B5%25D0%25BD%25D1%258C" TargetMode="External"/><Relationship Id="rId6" Type="http://schemas.openxmlformats.org/officeDocument/2006/relationships/hyperlink" Target="file:///F:/wiki/%25D0%2593%25D0%25B8%25D0%25BC%25D0%25B0%25D0%25BB%25D0%25B0%25D0%25B9%25D1%2581%25D0%25BA%25D0%25B8%25D0%25B9_%25D0%25BC%25D0%25B5%25D0%25B4%25D0%25B2%25D0%25B5%25D0%25B4%25D1%258C" TargetMode="External"/><Relationship Id="rId7" Type="http://schemas.openxmlformats.org/officeDocument/2006/relationships/hyperlink" Target="file:///F:/wiki/%25D0%2590%25D0%25B8%25D1%2581%25D1%2582_%25D1%2587%25D1%2591%25D1%2580%25D0%25BD%25D1%258B%25D0%25B9" TargetMode="External"/><Relationship Id="rId8" Type="http://schemas.openxmlformats.org/officeDocument/2006/relationships/hyperlink" Target="file:///F:/w/index.php%3Ftitle=%25D0%2591%25D0%25B5%25D0%25BA%25D0%25B0%25D1%2581_%25D1%258F%25D0%25BF%25D0%25BE%25D0%25BD%25D1%2581%25D0%25BA%25D0%25B8%25D0%25B9&amp;action=edit&amp;redlink=1" TargetMode="External"/><Relationship Id="rId9" Type="http://schemas.openxmlformats.org/officeDocument/2006/relationships/hyperlink" Target="http://ru.wikipedia.org/wiki/&#1060;&#1072;&#1081;&#1083;:Naemorhedus_goral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ru.wikipedia.org/wiki/&#1060;&#1072;&#1081;&#1083;:Ursus_thibetanus_Phila.JP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ru.wikipedia.org/wiki/&#1060;&#1072;&#1081;&#1083;:Gallinago_gallinago_PA192659.jpg" TargetMode="External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C%25D0%25B5" TargetMode="External"/><Relationship Id="rId2" Type="http://schemas.openxmlformats.org/officeDocument/2006/relationships/hyperlink" Target="file:///F:/wiki/%25D0%259A%25D0%25B8%25D0%25B5%25D0%25B2%25D0%25BA%25D0%25B0_(%25D1%2580%25D0%25B5%25D0%25BA%25D0%25B0)" TargetMode="External"/><Relationship Id="rId3" Type="http://schemas.openxmlformats.org/officeDocument/2006/relationships/hyperlink" Target="file:///F:/wiki/%25D0%259B%25D0%25B0%25D0%25B7%25D0%25BE%25D0%25B2%25D1%2581%25D0%25BA%25D0%25B8%25D0%25B9_%25D1%2580%25D0%25B0%25D0%25B9%25D0%25BE%25D0%25BD" TargetMode="External"/><Relationship Id="rId4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5" Type="http://schemas.openxmlformats.org/officeDocument/2006/relationships/hyperlink" Target="file:///F:/wiki/%25D0%2597%25D0%25B0%25D0%25BA%25D0%25B0%25D0%25B7%25D0%25BD%25D0%25B8%25D0%25BA" TargetMode="External"/><Relationship Id="rId6" Type="http://schemas.openxmlformats.org/officeDocument/2006/relationships/hyperlink" Target="file:///F:/wiki/%25D0%259C%25D1%2583%25D1%2581%25D1%2581%25D0%25BE%25D0%25BD" TargetMode="External"/><Relationship Id="rId7" Type="http://schemas.openxmlformats.org/officeDocument/2006/relationships/hyperlink" Target="file:///F:/wiki/%25D0%25AF%25D0%25B3%25D0%25BE%25D0%25B4%25D0%25BD%25D1%258B%25D0%25B9_%25D1%2582%25D0%25B8%25D1%2581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0%25D0%25BC%25D1%2583%25D1%2580%25D1%2581%25D0%25BA%25D0%25B8%25D0%25B9_%25D0%25B3%25D0%25BE%25D1%2580%25D0%25B0%25D0%25BB&amp;action=edit&amp;redlink=1" TargetMode="External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/index.php%3Ftitle=%25D0%2593%25D0%25B8%25D0%25B3%25D0%25B0%25D0%25BD%25D1%2582%25D1%2581%25D0%25BA%25D0%25B0%25D1%258F_%25D0%25B1%25D1%2583%25D1%2580%25D0%25BE%25D0%25B7%25D1%2583%25D0%25B1%25D0%25BA%25D0%25B0&amp;action=edit&amp;redlink=1" TargetMode="External"/><Relationship Id="rId4" Type="http://schemas.openxmlformats.org/officeDocument/2006/relationships/hyperlink" Target="file:///F:/wiki/%25D0%2594%25D0%25B0%25D0%25BB%25D1%258C%25D0%25BD%25D0%25B5%25D0%25B2%25D0%25BE%25D1%2581%25D1%2582%25D0%25BE%25D1%2587%25D0%25BD%25D1%258B%25D0%25B9_%25D0%25BB%25D0%25B5%25D0%25BE%25D0%25BF%25D0%25B0%25D1%2580%25D0%25B4" TargetMode="External"/><Relationship Id="rId5" Type="http://schemas.openxmlformats.org/officeDocument/2006/relationships/hyperlink" Target="file:///F:/w/index.php%3Ftitle=%25D0%259E%25D0%25B1%25D1%258B%25D0%25BA%25D0%25BD%25D0%25BE%25D0%25B2%25D0%25B5%25D0%25BD%25D0%25BD%25D1%258B%25D0%25B9_%25D0%25B4%25D0%25BB%25D0%25B8%25D0%25BD%25D0%25BD%25D0%25BE%25D0%25BA%25D1%2580%25D1%258B%25D0%25BB&amp;action=edit&amp;redlink=1" TargetMode="External"/><Relationship Id="rId6" Type="http://schemas.openxmlformats.org/officeDocument/2006/relationships/hyperlink" Target="file:///F:/w/index.php%3Ftitle=%25D0%25A3%25D1%2581%25D1%2581%25D1%2583%25D1%2580%25D0%25B8%25D0%25B9%25D1%2581%25D0%25BA%25D0%25B8%25D0%25B9_%25D0%25BF%25D1%258F%25D1%2582%25D0%25BD%25D0%25B8%25D1%2581%25D1%2582%25D1%258B%25D0%25B9_%25D0%25BE%25D0%25BB%25D0%25B5%25D0%25BD%25D1%258C&amp;action=edit&amp;redlink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4%25D0%25B0%25D0%25BB%25D1%258C%25D0%25BD%25D0%25B5%25D0%25B2%25D0%25BE%25D1%2581%25D1%2582%25D0%25BE%25D1%2587%25D0%25BD%25D1%258B%25D0%25B9_%25D0%25BA%25D1%2580%25D0%25BE%25D0%25BD%25D1%2588%25D0%25BD%25D0%25B5%25D0%25BF&amp;action=edit&amp;redlink=1" TargetMode="External"/><Relationship Id="rId2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3" Type="http://schemas.openxmlformats.org/officeDocument/2006/relationships/hyperlink" Target="file:///F:/wiki/%25D0%2594%25D1%2580%25D0%25BE%25D1%2584%25D0%25B0" TargetMode="External"/><Relationship Id="rId4" Type="http://schemas.openxmlformats.org/officeDocument/2006/relationships/hyperlink" Target="file:///F:/wiki/%25D0%2595%25D0%25B3%25D0%25B8%25D0%25BF%25D0%25B5%25D1%2582%25D1%2581%25D0%25BA%25D0%25B0%25D1%258F_%25D1%2586%25D0%25B0%25D0%25BF%25D0%25BB%25D1%258F" TargetMode="External"/><Relationship Id="rId5" Type="http://schemas.openxmlformats.org/officeDocument/2006/relationships/hyperlink" Target="file:///F:/w/index.php%3Ftitle=%25D0%2596%25D0%25B5%25D0%25BB%25D1%2582%25D0%25BE%25D0%25BA%25D0%25BB%25D1%258E%25D0%25B2%25D0%25B0%25D1%258F_%25D1%2586%25D0%25B0%25D0%25BF%25D0%25BB%25D1%258F&amp;action=edit&amp;redlink=1" TargetMode="External"/><Relationship Id="rId6" Type="http://schemas.openxmlformats.org/officeDocument/2006/relationships/hyperlink" Target="file:///F:/wiki/%25D0%259A%25D0%25BB%25D0%25BE%25D0%25BA%25D1%2582%25D1%2583%25D0%25BD" TargetMode="External"/><Relationship Id="rId7" Type="http://schemas.openxmlformats.org/officeDocument/2006/relationships/hyperlink" Target="file:///F:/wiki/%25D0%259A%25D0%25BE%25D0%25BB%25D0%25BF%25D0%25B8%25D1%2586%25D0%25B0" TargetMode="External"/><Relationship Id="rId8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9" Type="http://schemas.openxmlformats.org/officeDocument/2006/relationships/hyperlink" Target="file:///F:/wiki/%25D0%259A%25D1%2580%25D0%25B5%25D1%2587%25D0%25B5%25D1%2582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ru.wikipedia.org/wiki/&#1060;&#1072;&#1081;&#1083;:Curlew_-_natures_pics.jpg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ru.wikipedia.org/wiki/&#1060;&#1072;&#1081;&#1083;:Loeffler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:/wiki/%25D0%259C%25D0%25B0%25D0%25BB%25D0%25B0%25D1%258F_%25D0%25BA%25D1%2580%25D0%25B0%25D1%2587%25D0%25BA%25D0%25B0" TargetMode="External"/><Relationship Id="rId2" Type="http://schemas.openxmlformats.org/officeDocument/2006/relationships/hyperlink" Target="file:///F:/wiki/%25D0%259C%25D0%25B0%25D0%25BB%25D1%258B%25D0%25B9_%25D0%25BB%25D0%25B5%25D0%25B1%25D0%25B5%25D0%25B4%25D1%258C" TargetMode="External"/><Relationship Id="rId3" Type="http://schemas.openxmlformats.org/officeDocument/2006/relationships/hyperlink" Target="file:///F:/wiki/%25D0%259B%25D0%25B5%25D0%25B1%25D0%25B5%25D0%25B4%25D1%258C" TargetMode="External"/><Relationship Id="rId4" Type="http://schemas.openxmlformats.org/officeDocument/2006/relationships/hyperlink" Target="file:///F:/wiki/%25D0%259D%25D1%258B%25D1%2580%25D0%25BE%25D0%25BA_%25D0%2591%25D1%258D%25D1%2580%25D0%25B0" TargetMode="External"/><Relationship Id="rId5" Type="http://schemas.openxmlformats.org/officeDocument/2006/relationships/hyperlink" Target="file:///F:/wiki/%25D0%259E%25D0%25B1%25D1%258B%25D0%25BA%25D0%25BD%25D0%25BE%25D0%25B2%25D0%25B5%25D0%25BD%25D0%25BD%25D1%258B%25D0%25B9_%25D1%2584%25D0%25BB%25D0%25B0%25D0%25BC%25D0%25B8%25D0%25BD%25D0%25B3%25D0%25BE" TargetMode="External"/><Relationship Id="rId6" Type="http://schemas.openxmlformats.org/officeDocument/2006/relationships/hyperlink" Target="file:///F:/wiki/%25D0%259E%25D1%2580%25D0%25BB%25D0%25B0%25D0%25BD-%25D0%25B1%25D0%25B5%25D0%25BB%25D0%25BE%25D1%2585%25D0%25B2%25D0%25BE%25D1%2581%25D1%2582" TargetMode="External"/><Relationship Id="rId7" Type="http://schemas.openxmlformats.org/officeDocument/2006/relationships/hyperlink" Target="file:///F:/wiki/%25D0%259E%25D1%2585%25D0%25BE%25D1%2582%25D1%2581%25D0%25BA%25D0%25B8%25D0%25B9_%25D1%2583%25D0%25BB%25D0%25B8%25D1%2582" TargetMode="External"/><Relationship Id="rId8" Type="http://schemas.openxmlformats.org/officeDocument/2006/relationships/hyperlink" Target="file:///F:/wiki/%25D0%259F%25D0%25B8%25D1%2581%25D0%25BA%25D1%2583%25D0%25BB%25D1%258C%25D0%25BA%25D0%25B0" TargetMode="External"/><Relationship Id="rId9" Type="http://schemas.openxmlformats.org/officeDocument/2006/relationships/hyperlink" Target="file:///F:/wiki/%25D0%25A0%25D0%25BE%25D0%25B3%25D0%25B0%25D1%2582%25D0%25B0%25D1%258F_%25D0%25BA%25D0%25B0%25D0%25BC%25D1%258B%25D1%2588%25D0%25BD%25D0%25B8%25D1%2586%25D0%25B0" TargetMode="External"/><Relationship Id="rId10" Type="http://schemas.openxmlformats.org/officeDocument/2006/relationships/hyperlink" Target="file:///F:/wiki/%25D0%25A0%25D1%258B%25D0%25B1%25D0%25BD%25D1%258B%25D0%25B9_%25D1%2584%25D0%25B8%25D0%25BB%25D0%25B8%25D0%25BD" TargetMode="External"/><Relationship Id="rId11" Type="http://schemas.openxmlformats.org/officeDocument/2006/relationships/hyperlink" Target="file:///F:/wiki/%25D0%25A1%25D0%25B0%25D0%25BF%25D1%2581%25D0%25B0%25D0%25BD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ru.wikipedia.org/wiki/&#1060;&#1072;&#1081;&#1083;:Qtqy.jpg" TargetMode="External"/><Relationship Id="rId16" Type="http://schemas.openxmlformats.org/officeDocument/2006/relationships/image" Target="../media/image31.jpeg"/><Relationship Id="rId17" Type="http://schemas.openxmlformats.org/officeDocument/2006/relationships/hyperlink" Target="http://ru.wikipedia.org/wiki/&#1060;&#1072;&#1081;&#1083;:Seeadler-flug.jpg" TargetMode="External"/><Relationship Id="rId18" Type="http://schemas.openxmlformats.org/officeDocument/2006/relationships/image" Target="../media/image32.jpeg"/><Relationship Id="rId19" Type="http://schemas.openxmlformats.org/officeDocument/2006/relationships/hyperlink" Target="http://ru.wikipedia.org/wiki/&#1060;&#1072;&#1081;&#1083;:Watercock.jpg" TargetMode="External"/><Relationship Id="rId20" Type="http://schemas.openxmlformats.org/officeDocument/2006/relationships/image" Target="../media/image33.jpeg"/><Relationship Id="rId21" Type="http://schemas.openxmlformats.org/officeDocument/2006/relationships/hyperlink" Target="http://ru.wikipedia.org/wiki/&#1060;&#1072;&#1081;&#1083;:Ente_unbekannt_1.jpg" TargetMode="External"/><Relationship Id="rId22" Type="http://schemas.openxmlformats.org/officeDocument/2006/relationships/image" Target="../media/image34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0%25B0%25D0%25BC%25D1%2587%25D0%25B0%25D1%2582%25D0%25BA%25D0%25B0" TargetMode="External"/><Relationship Id="rId2" Type="http://schemas.openxmlformats.org/officeDocument/2006/relationships/hyperlink" Target="file:///F:/wiki/%25D0%25A5%25D0%25BE%25D0%25BA%25D0%25BA%25D0%25B0%25D0%25B9%25D0%25B4%25D0%25BE" TargetMode="External"/><Relationship Id="rId3" Type="http://schemas.openxmlformats.org/officeDocument/2006/relationships/hyperlink" Target="file:///F:/wiki/%25D0%259E%25D1%2585%25D0%25BE%25D1%2582%25D1%2581%25D0%25BA%25D0%25BE%25D0%25B5_%25D0%25BC%25D0%25BE%25D1%2580%25D0%25B5" TargetMode="External"/><Relationship Id="rId4" Type="http://schemas.openxmlformats.org/officeDocument/2006/relationships/hyperlink" Target="file:///F:/wiki/%25D0%25A2%25D0%25B8%25D1%2585%25D0%25B8%25D0%25B9_%25D0%25BE%25D0%25BA%25D0%25B5%25D0%25B0%25D0%25BD" TargetMode="External"/><Relationship Id="rId5" Type="http://schemas.openxmlformats.org/officeDocument/2006/relationships/hyperlink" Target="file:///F:/wiki/%25D0%25A0%25D0%25BE%25D1%2581%25D1%2581%25D0%25B8%25D1%258F" TargetMode="External"/><Relationship Id="rId6" Type="http://schemas.openxmlformats.org/officeDocument/2006/relationships/hyperlink" Target="file:///F:/wiki/%25D0%25A1%25D0%25B0%25D1%2585%25D0%25B0%25D0%25BB%25D0%25B8%25D0%25BD%25D1%2581%25D0%25BA%25D0%25B0%25D1%258F_%25D0%25BE%25D0%25B1%25D0%25BB%25D0%25B0%25D1%2581%25D1%2582%25D1%258C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:/wiki/%25D0%259E%25D1%2581%25D1%2582%25D1%2580%25D0%25BE%25D0%25B2%25D0%25BD%25D0%25B0%25D1%258F_%25D0%25B4%25D1%2583%25D0%25B3%25D0%25B0" TargetMode="External"/><Relationship Id="rId2" Type="http://schemas.openxmlformats.org/officeDocument/2006/relationships/hyperlink" Target="file:///F:/wiki/%25D0%259E%25D1%2585%25D0%25BE%25D1%2582%25D1%2581%25D0%25BA%25D0%25B0%25D1%258F_%25D0%25BF%25D0%25BB%25D0%25B8%25D1%2582%25D0%25B0" TargetMode="External"/><Relationship Id="rId3" Type="http://schemas.openxmlformats.org/officeDocument/2006/relationships/hyperlink" Target="file:///F:/wiki/%25D0%2597%25D0%25BE%25D0%25BD%25D0%25B0_%25D1%2581%25D1%2583%25D0%25B1%25D0%25B4%25D1%2583%25D0%25BA%25D1%2586%25D0%25B8%25D0%25B8" TargetMode="External"/><Relationship Id="rId4" Type="http://schemas.openxmlformats.org/officeDocument/2006/relationships/hyperlink" Target="file:///F:/wiki/%25D0%25A2%25D0%25B8%25D1%2585%25D0%25BE%25D0%25BE%25D0%25BA%25D0%25B5%25D0%25B0%25D0%25BD%25D1%2581%25D0%25BA%25D0%25B0%25D1%258F_%25D0%25BF%25D0%25BB%25D0%25B8%25D1%2582%25D0%25B0" TargetMode="External"/><Relationship Id="rId5" Type="http://schemas.openxmlformats.org/officeDocument/2006/relationships/hyperlink" Target="file:///F:/wiki/%25D0%259E%25D1%2581%25D1%2582%25D1%2580%25D0%25BE%25D0%25B2_%25D0%2590%25D1%2582%25D0%25BB%25D0%25B0%25D1%2581%25D0%25BE%25D0%25B2%25D0%25B0" TargetMode="External"/><Relationship Id="rId6" Type="http://schemas.openxmlformats.org/officeDocument/2006/relationships/hyperlink" Target="file:///F:/wiki/%25D0%2590%25D0%25BB%25D0%25B0%25D0%25B8%25D0%25B4" TargetMode="External"/><Relationship Id="rId7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8" Type="http://schemas.openxmlformats.org/officeDocument/2006/relationships/hyperlink" Target="file:///F:/w/index.php%3Ftitle=%25D0%259C%25D0%25B8%25D0%25BD%25D0%25B5%25D1%2580%25D0%25B0%25D0%25BB%25D1%258C%25D0%25BD%25D1%258B%25D0%25B5_%25D0%25B8%25D1%2581%25D1%2582%25D0%25BE%25D1%2587%25D0%25BD%25D0%25B8%25D0%25BA%25D0%25B8&amp;action=edit&amp;redlink=1" TargetMode="External"/><Relationship Id="rId9" Type="http://schemas.openxmlformats.org/officeDocument/2006/relationships/hyperlink" Target="file:///F:/wiki/%25D0%25A1%25D0%25B5%25D0%25B9%25D1%2581%25D0%25BC%25D0%25B8%25D1%2587%25D0%25BD%25D0%25BE%25D1%2581%25D1%2582%25D1%258C" TargetMode="External"/><Relationship Id="rId10" Type="http://schemas.openxmlformats.org/officeDocument/2006/relationships/hyperlink" Target="file:///F:/wiki/%25D0%25A2%25D0%25B8%25D1%2585%25D0%25BE%25D0%25BE%25D0%25BA%25D0%25B5%25D0%25B0%25D0%25BD%25D1%2581%25D0%25BA%25D0%25BE%25D0%25B5_%25D0%25B2%25D1%2583%25D0%25BB%25D0%25BA%25D0%25B0%25D0%25BD%25D0%25B8%25D1%2587%25D0%25B5%25D1%2581%25D0%25BA%25D0%25BE%25D0%25B5_%25D0%25BE%25D0%25B3%25D0%25BD%25D0%25B5%25D0%25BD%25D0%25BD%25D0%25BE%25D0%25B5_%25D0%25BA%25D0%25BE%25D0%25BB%25D1%258C%25D1%2586%25D0%25BE" TargetMode="External"/><Relationship Id="rId11" Type="http://schemas.openxmlformats.org/officeDocument/2006/relationships/hyperlink" Target="file:///F:/wiki/%25D0%25A6%25D1%2583%25D0%25BD%25D0%25B0%25D0%25BC%25D0%25B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:/wiki/%25D0%259B%25D0%25B8%25D1%2581%25D0%25B0" TargetMode="External"/><Relationship Id="rId2" Type="http://schemas.openxmlformats.org/officeDocument/2006/relationships/hyperlink" Target="file:///F:/wiki/%25D0%2593%25D1%2580%25D1%258B%25D0%25B7%25D1%2583%25D0%25BD%25D1%258B" TargetMode="External"/><Relationship Id="rId3" Type="http://schemas.openxmlformats.org/officeDocument/2006/relationships/hyperlink" Target="file:///F:/wiki/%25D0%25A0%25D0%25B6%25D0%25B0%25D0%25BD%25D0%25BA%25D0%25BE%25D0%25BE%25D0%25B1%25D1%2580%25D0%25B0%25D0%25B7%25D0%25BD%25D1%258B%25D0%25B5" TargetMode="External"/><Relationship Id="rId4" Type="http://schemas.openxmlformats.org/officeDocument/2006/relationships/hyperlink" Target="file:///F:/wiki/%25D0%25A7%25D0%25B0%25D0%25B9%25D0%25BA%25D0%25B0" TargetMode="External"/><Relationship Id="rId5" Type="http://schemas.openxmlformats.org/officeDocument/2006/relationships/hyperlink" Target="file:///F:/wiki/%25D0%25A3%25D1%2582%25D0%25B8%25D0%25BD%25D1%258B%25D0%25B5" TargetMode="External"/><Relationship Id="rId6" Type="http://schemas.openxmlformats.org/officeDocument/2006/relationships/hyperlink" Target="file:///F:/wiki/%25D0%2591%25D0%25B0%25D0%25BA%25D0%25BB%25D0%25B0%25D0%25BD%25D1%258B" TargetMode="External"/><Relationship Id="rId7" Type="http://schemas.openxmlformats.org/officeDocument/2006/relationships/hyperlink" Target="file:///F:/wiki/%25D0%2591%25D1%2583%25D1%2580%25D0%25B5%25D0%25B2%25D0%25B5%25D1%2581%25D1%2582%25D0%25BD%25D0%25B8%25D0%25BA%25D0%25B8" TargetMode="External"/><Relationship Id="rId8" Type="http://schemas.openxmlformats.org/officeDocument/2006/relationships/hyperlink" Target="file:///F:/wiki/%25D0%2590%25D0%25BB%25D1%258C%25D0%25B1%25D0%25B0%25D1%2582%25D1%2580%25D0%25BE%25D1%2581%25D1%258B" TargetMode="External"/><Relationship Id="rId9" Type="http://schemas.openxmlformats.org/officeDocument/2006/relationships/hyperlink" Target="file:///F:/wiki/%25D0%2592%25D0%25BE%25D1%2580%25D0%25BE%25D0%25B1%25D1%258C%25D0%25B8%25D0%25BD%25D1%258B%25D0%25B5" TargetMode="External"/><Relationship Id="rId10" Type="http://schemas.openxmlformats.org/officeDocument/2006/relationships/hyperlink" Target="file:///F:/wiki/%25D0%25A1%25D0%25BE%25D0%25B2%25D1%258B" TargetMode="External"/><Relationship Id="rId11" Type="http://schemas.openxmlformats.org/officeDocument/2006/relationships/hyperlink" Target="file:///F:/wiki/%25D0%25A1%25D0%25BE%25D0%25BA%25D0%25BE%25D0%25BB%25D0%25BE%25D0%25BE%25D0%25B1%25D1%2580%25D0%25B0%25D0%25B7%25D0%25BD%25D1%258B%25D0%25B5" TargetMode="External"/><Relationship Id="rId12" Type="http://schemas.openxmlformats.org/officeDocument/2006/relationships/hyperlink" Target="file:///F:/wiki/%25D0%259F%25D1%2582%25D0%25B8%25D1%2587%25D0%25B8%25D0%25B9_%25D0%25B1%25D0%25B0%25D0%25B7%25D0%25B0%25D1%2580" TargetMode="External"/><Relationship Id="rId13" Type="http://schemas.openxmlformats.org/officeDocument/2006/relationships/hyperlink" Target="file:///F:/wiki/%25D0%259D%25D0%25B5%25D1%2580%25D0%25BF%25D0%25B0" TargetMode="External"/><Relationship Id="rId14" Type="http://schemas.openxmlformats.org/officeDocument/2006/relationships/hyperlink" Target="file:///F:/wiki/%25D0%259A%25D0%25B0%25D0%25BB%25D0%25B0%25D0%25BD%25D1%258B" TargetMode="External"/><Relationship Id="rId15" Type="http://schemas.openxmlformats.org/officeDocument/2006/relationships/hyperlink" Target="file:///F:/wiki/%25D0%259A%25D0%25BE%25D1%2581%25D0%25B0%25D1%2582%25D0%25BA%25D0%25B0_(%25D0%25BC%25D0%25BB%25D0%25B5%25D0%25BA%25D0%25BE%25D0%25BF%25D0%25B8%25D1%2582%25D0%25B0%25D1%258E%25D1%2589%25D0%25B5%25D0%25B5)" TargetMode="External"/><Relationship Id="rId16" Type="http://schemas.openxmlformats.org/officeDocument/2006/relationships/hyperlink" Target="file:///F:/wiki/%25D0%25A1%25D0%25B8%25D0%25B2%25D1%2583%25D1%2587" TargetMode="External"/><Relationship Id="rId17" Type="http://schemas.openxmlformats.org/officeDocument/2006/relationships/hyperlink" Target="file:///F:/wiki/%25D0%25A0%25D1%258B%25D0%25B1%25D1%258B" TargetMode="External"/><Relationship Id="rId18" Type="http://schemas.openxmlformats.org/officeDocument/2006/relationships/hyperlink" Target="file:///F:/wiki/%25D0%259A%25D1%2580%25D0%25B0%25D0%25B1" TargetMode="External"/><Relationship Id="rId19" Type="http://schemas.openxmlformats.org/officeDocument/2006/relationships/hyperlink" Target="file:///F:/wiki/%25D0%259C%25D0%25BE%25D0%25BB%25D0%25BB%25D1%258E%25D1%2581%25D0%25BA" TargetMode="External"/><Relationship Id="rId20" Type="http://schemas.openxmlformats.org/officeDocument/2006/relationships/hyperlink" Target="file:///F:/wiki/%25D0%259A%25D0%25B0%25D0%25BB%25D1%258C%25D0%25BC%25D0%25B0%25D1%2580" TargetMode="External"/><Relationship Id="rId21" Type="http://schemas.openxmlformats.org/officeDocument/2006/relationships/hyperlink" Target="file:///F:/wiki/%25D0%25A0%25D0%25B0%25D0%25BA%25D0%25BE%25D0%25BE%25D0%25B1%25D1%2580%25D0%25B0%25D0%25B7%25D0%25BD%25D1%258B%25D0%25B5" TargetMode="External"/><Relationship Id="rId22" Type="http://schemas.openxmlformats.org/officeDocument/2006/relationships/hyperlink" Target="file:///F:/wiki/%25D0%25A2%25D1%2580%25D0%25B5%25D0%25BF%25D0%25B0%25D0%25BD%25D0%25B3" TargetMode="External"/><Relationship Id="rId23" Type="http://schemas.openxmlformats.org/officeDocument/2006/relationships/hyperlink" Target="file:///F:/wiki/%25D0%259A%25D1%2583%25D0%25BA%25D1%2583%25D0%25BC%25D0%25B0%25D1%2580%25D0%25B8%25D1%258F" TargetMode="External"/><Relationship Id="rId24" Type="http://schemas.openxmlformats.org/officeDocument/2006/relationships/hyperlink" Target="file:///F:/wiki/%25D0%259C%25D0%25BE%25D1%2580%25D1%2581%25D0%25BA%25D0%25B8%25D0%25B5_%25D0%25B5%25D0%25B6%25D0%25B8" TargetMode="External"/><Relationship Id="rId25" Type="http://schemas.openxmlformats.org/officeDocument/2006/relationships/hyperlink" Target="file:///F:/wiki/%25D0%259C%25D0%25BE%25D1%2580%25D1%2581%25D0%25BA%25D0%25B0%25D1%258F_%25D0%25BA%25D0%25B0%25D0%25BF%25D1%2583%25D1%2581%25D1%2582%25D0%25B0" TargetMode="External"/><Relationship Id="rId26" Type="http://schemas.openxmlformats.org/officeDocument/2006/relationships/hyperlink" Target="file:///F:/wiki/%25D0%259A%25D0%25B8%25D1%2582%25D0%25BE%25D0%25BE%25D0%25B1%25D1%2580%25D0%25B0%25D0%25B7%25D0%25BD%25D1%258B%25D0%25B5" TargetMode="External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opt.info/dmorsk/bigma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" TargetMode="External"/><Relationship Id="rId2" Type="http://schemas.openxmlformats.org/officeDocument/2006/relationships/hyperlink" Target="file:///F:/wiki/%25D0%259C%25D0%25B0%25D1%2582%25D0%25B5%25D1%2580%25D0%25B8%25D0%25BA" TargetMode="External"/><Relationship Id="rId3" Type="http://schemas.openxmlformats.org/officeDocument/2006/relationships/hyperlink" Target="file:///F:/wiki/%25D0%2595%25D0%25B2%25D1%2580%25D0%25B0%25D0%25B7%25D0%25B8%25D1%258F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9E%25D1%2585%25D0%25BE%25D1%2582%25D1%2581%25D0%25BA%25D0%25BE%25D0%25B5_%25D0%25BC%25D0%25BE%25D1%2580%25D0%25B5" TargetMode="External"/><Relationship Id="rId6" Type="http://schemas.openxmlformats.org/officeDocument/2006/relationships/hyperlink" Target="file:///F:/wiki/%25D0%2591%25D0%25B5%25D1%2580%25D0%25B8%25D0%25BD%25D0%25B3%25D0%25BE%25D0%25B2%25D0%25BE_%25D0%25BC%25D0%25BE%25D1%2580%25D0%25B5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9F%25D0%25B5%25D1%2580%25D0%25B5%25D1%2588%25D0%25B5%25D0%25B5%25D0%25BA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F:/wiki/%25D0%2592%25D1%2583%25D0%25BB%25D0%25BA%25D0%25B0%25D0%25BD" TargetMode="External"/><Relationship Id="rId2" Type="http://schemas.openxmlformats.org/officeDocument/2006/relationships/hyperlink" Target="file:///F:/wiki/%25D0%259A%25D0%25B0%25D0%25BC%25D1%2587%25D0%25B0%25D1%2582%25D1%2581%25D0%25BA%25D0%25B8%25D0%25B9_%25D0%25BA%25D1%2580%25D0%25B0%25D0%25B9" TargetMode="External"/><Relationship Id="rId3" Type="http://schemas.openxmlformats.org/officeDocument/2006/relationships/hyperlink" Target="file:///F:/wiki/%25D0%259A%25D0%25B0%25D0%25BC%25D1%2587%25D0%25B0%25D1%2582%25D1%2581%25D0%25BA%25D0%25B0%25D1%258F_%25D0%25BE%25D0%25B1%25D0%25BB%25D0%25B0%25D1%2581%25D1%2582%25D1%258C" TargetMode="External"/><Relationship Id="rId4" Type="http://schemas.openxmlformats.org/officeDocument/2006/relationships/hyperlink" Target="file:///F:/wiki/%25D0%259F%25D0%25B5%25D1%2582%25D1%2580%25D0%25BE%25D0%25BF%25D0%25B0%25D0%25B2%25D0%25BB%25D0%25BE%25D0%25B2%25D1%2581%25D0%25BA-%25D0%259A%25D0%25B0%25D0%25BC%25D1%2587%25D0%25B0%25D1%2582%25D1%2581%25D0%25BA%25D0%25B8%25D0%25B9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F:/wiki/%25D0%25A1%25D0%25BE%25D0%25B1%25D0%25BE%25D0%25BB%25D1%258C" TargetMode="External"/><Relationship Id="rId2" Type="http://schemas.openxmlformats.org/officeDocument/2006/relationships/hyperlink" Target="file:///F:/wiki/%25D0%2593%25D0%25BE%25D1%2580%25D0%25BD%25D0%25BE%25D1%2581%25D1%2582%25D0%25B0%25D0%25B9" TargetMode="External"/><Relationship Id="rId3" Type="http://schemas.openxmlformats.org/officeDocument/2006/relationships/hyperlink" Target="file:///F:/wiki/%25D0%2592%25D1%258B%25D0%25B4%25D1%2580%25D0%25B0" TargetMode="External"/><Relationship Id="rId4" Type="http://schemas.openxmlformats.org/officeDocument/2006/relationships/hyperlink" Target="file:///F:/wiki/%25D0%2597%25D0%25B0%25D1%258F%25D1%2586-%25D0%25B1%25D0%25B5%25D0%25BB%25D1%258F%25D0%25BA" TargetMode="External"/><Relationship Id="rId5" Type="http://schemas.openxmlformats.org/officeDocument/2006/relationships/hyperlink" Target="file:///F:/wiki/%25D0%259E%25D0%25BD%25D0%25B4%25D0%25B0%25D1%2582%25D1%2580%25D0%25B0" TargetMode="External"/><Relationship Id="rId6" Type="http://schemas.openxmlformats.org/officeDocument/2006/relationships/hyperlink" Target="file:///F:/wiki/%25D0%259B%25D0%25B8%25D1%2581%25D0%25B8%25D1%2586%25D0%25B0" TargetMode="External"/><Relationship Id="rId7" Type="http://schemas.openxmlformats.org/officeDocument/2006/relationships/hyperlink" Target="file:///F:/wiki/%25D0%259B%25D0%25BE%25D1%2581%25D1%258C" TargetMode="External"/><Relationship Id="rId8" Type="http://schemas.openxmlformats.org/officeDocument/2006/relationships/hyperlink" Target="file:///F:/wiki/%25D0%25A1%25D0%25B5%25D0%25B2%25D0%25B5%25D1%2580%25D0%25BD%25D1%258B%25D0%25B9_%25D0%25BE%25D0%25BB%25D0%25B5%25D0%25BD%25D1%258C" TargetMode="External"/><Relationship Id="rId9" Type="http://schemas.openxmlformats.org/officeDocument/2006/relationships/hyperlink" Target="file:///F:/wiki/%25D0%25A1%25D0%25BD%25D0%25B5%25D0%25B6%25D0%25BD%25D1%258B%25D0%25B9_%25D0%25B1%25D0%25B0%25D1%2580%25D0%25B0%25D0%25BD" TargetMode="External"/><Relationship Id="rId10" Type="http://schemas.openxmlformats.org/officeDocument/2006/relationships/hyperlink" Target="file:///F:/wiki/%25D0%25A0%25D1%258B%25D1%2581%25D1%258C" TargetMode="External"/><Relationship Id="rId11" Type="http://schemas.openxmlformats.org/officeDocument/2006/relationships/hyperlink" Target="file:///F:/wiki/%25D0%259F%25D0%25BE%25D0%25BB%25D1%258F%25D1%2580%25D0%25BD%25D1%258B%25D0%25B9_%25D0%25B2%25D0%25BE%25D0%25BB%25D0%25BA" TargetMode="External"/><Relationship Id="rId12" Type="http://schemas.openxmlformats.org/officeDocument/2006/relationships/hyperlink" Target="file:///F:/wiki/%25D0%25A0%25D0%25BE%25D1%2581%25D0%25BE%25D0%25BC%25D0%25B0%25D1%2585%25D0%25B0" TargetMode="External"/><Relationship Id="rId13" Type="http://schemas.openxmlformats.org/officeDocument/2006/relationships/hyperlink" Target="file:///F:/wiki/%25D0%259B%25D0%25B0%25D1%2581%25D0%25BA%25D0%25B0_(%25D0%25B6%25D0%25B8%25D0%25B2%25D0%25BE%25D1%2582%25D0%25BD%25D0%25BE%25D0%25B5)" TargetMode="External"/><Relationship Id="rId14" Type="http://schemas.openxmlformats.org/officeDocument/2006/relationships/hyperlink" Target="file:///F:/wiki/%25D0%259A%25D0%25B0%25D0%25B1%25D0%25B0%25D1%2580%25D0%25B3%25D0%25B0" TargetMode="External"/><Relationship Id="rId15" Type="http://schemas.openxmlformats.org/officeDocument/2006/relationships/hyperlink" Target="file:///F:/wiki/%25D0%2594%25D0%25B8%25D0%25BA%25D1%2583%25D1%2588%25D0%25B0" TargetMode="External"/><Relationship Id="rId16" Type="http://schemas.openxmlformats.org/officeDocument/2006/relationships/hyperlink" Target="file:///F:/wiki/%25D0%2591%25D0%25B5%25D0%25BB%25D0%25BA%25D0%25B0-%25D0%25BB%25D0%25B5%25D1%2582%25D1%258F%25D0%25B3%25D0%25B0" TargetMode="External"/><Relationship Id="rId17" Type="http://schemas.openxmlformats.org/officeDocument/2006/relationships/hyperlink" Target="file:///F:/wiki/%25D0%2591%25D1%2583%25D1%2580%25D1%2583%25D0%25BD%25D0%25B4%25D1%2583%25D0%25BA" TargetMode="External"/><Relationship Id="rId18" Type="http://schemas.openxmlformats.org/officeDocument/2006/relationships/hyperlink" Target="file:///F:/wiki/1930-%25D0%25B5" TargetMode="External"/><Relationship Id="rId19" Type="http://schemas.openxmlformats.org/officeDocument/2006/relationships/hyperlink" Target="file:///F:/wiki/XX_%25D0%25B2%25D0%25B5%25D0%25BA" TargetMode="External"/><Relationship Id="rId20" Type="http://schemas.openxmlformats.org/officeDocument/2006/relationships/hyperlink" Target="file:///F:/wiki/%25D0%2591%25D1%2583%25D1%2580%25D1%258B%25D0%25B9_%25D0%25BC%25D0%25B5%25D0%25B4%25D0%25B2%25D0%25B5%25D0%25B4%25D1%258C" TargetMode="External"/><Relationship Id="rId21" Type="http://schemas.openxmlformats.org/officeDocument/2006/relationships/image" Target="../media/image43.jpeg"/><Relationship Id="rId22" Type="http://schemas.openxmlformats.org/officeDocument/2006/relationships/image" Target="../media/image44.jpeg"/><Relationship Id="rId23" Type="http://schemas.openxmlformats.org/officeDocument/2006/relationships/hyperlink" Target="http://ru.wikipedia.org/wiki/&#1060;&#1072;&#1081;&#1083;:Wolverine_on_rock.jpg" TargetMode="External"/><Relationship Id="rId24" Type="http://schemas.openxmlformats.org/officeDocument/2006/relationships/image" Target="../media/image45.jpeg"/><Relationship Id="rId25" Type="http://schemas.openxmlformats.org/officeDocument/2006/relationships/hyperlink" Target="http://ru.wikipedia.org/wiki/&#1060;&#1072;&#1081;&#1083;:Zobel_(Martes_zibellina).png" TargetMode="External"/><Relationship Id="rId26" Type="http://schemas.openxmlformats.org/officeDocument/2006/relationships/image" Target="../media/image46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1%2580%25D0%25B5%25D0%25B7%25D0%25B0_%25D0%25AD%25D1%2580%25D0%25BC%25D0%25B0%25D0%25BD%25D0%25B0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ru.wikipedia.org/wiki/&#1060;&#1072;&#1081;&#1083;:Betula_ermanii_(200612)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_%25D0%259A%25D0%25B0%25D0%25BC%25D1%2587%25D0%25B0%25D1%2582%25D0%25BA%25D0%25B0" TargetMode="External"/><Relationship Id="rId2" Type="http://schemas.openxmlformats.org/officeDocument/2006/relationships/hyperlink" Target="file:///F:/wiki/%25D0%259A%25D1%2580%25D0%25BE%25D0%25BD%25D0%25BE%25D1%2586%25D0%25BA%25D0%25B8%25D0%25B9_%25D0%25B7%25D0%25B0%25D0%25BF%25D0%25BE%25D0%25B2%25D0%25B5%25D0%25B4%25D0%25BD%25D0%25B8%25D0%25BA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ru.wikipedia.org/wiki/&#1060;&#1072;&#1081;&#1083;:Map_of_Russia_-_Kamchatka_Krai_(2008-03).svg" TargetMode="External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8%25D1%2583%25D0%25BC%25D0%25BD%25D0%25B0%25D1%258F_(%25D1%2580%25D0%25B5%25D0%25BA%25D0%25B0)&amp;action=edit&amp;redlink=1" TargetMode="External"/><Relationship Id="rId2" Type="http://schemas.openxmlformats.org/officeDocument/2006/relationships/hyperlink" Target="file:///F:/wiki/%25D0%259A%25D0%25B2%25D0%25B0%25D0%25B4%25D1%2580%25D0%25B0%25D1%2582%25D0%25BD%25D1%258B%25D0%25B9_%25D0%25BA%25D0%25B8%25D0%25BB%25D0%25BE%25D0%25BC%25D0%25B5%25D1%2582%25D1%2580" TargetMode="External"/><Relationship Id="rId3" Type="http://schemas.openxmlformats.org/officeDocument/2006/relationships/hyperlink" Target="file:///F:/wiki/%25D0%2593%25D0%25B5%25D0%25B9%25D0%25B7%25D0%25B5%25D1%2580" TargetMode="External"/><Relationship Id="rId4" Type="http://schemas.openxmlformats.org/officeDocument/2006/relationships/hyperlink" Target="file:///F:/wiki/%25D0%2593%25D1%2580%25D0%25B0%25D0%25B4%25D1%2583%25D1%2581_%25D0%25A6%25D0%25B5%25D0%25BB%25D1%258C%25D1%2581%25D0%25B8%25D1%258F" TargetMode="External"/><Relationship Id="rId5" Type="http://schemas.openxmlformats.org/officeDocument/2006/relationships/hyperlink" Target="file:///F:/wiki/%25D0%259F%25D0%25B0%25D1%2580" TargetMode="External"/><Relationship Id="rId6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7" Type="http://schemas.openxmlformats.org/officeDocument/2006/relationships/hyperlink" Target="file:///F:/wiki/%25D0%259A%25D0%25B0%25D0%25BD%25D1%258C%25D0%25BE%25D0%25BD" TargetMode="External"/><Relationship Id="rId8" Type="http://schemas.openxmlformats.org/officeDocument/2006/relationships/hyperlink" Target="file:///F:/wiki/%25D0%259A%25D0%25B8%25D0%25BB%25D0%25BE%25D0%25BC%25D0%25B5%25D1%2582%25D1%2580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:/wiki/1981" TargetMode="External"/><Relationship Id="rId2" Type="http://schemas.openxmlformats.org/officeDocument/2006/relationships/hyperlink" Target="file:///F:/w/index.php%3Ftitle=%25D0%2593%25D0%25B5%25D0%25B9%25D0%25B7%25D0%25B5%25D1%2580%25D0%25BD%25D0%25B0%25D1%258F_(%25D1%2580%25D0%25B5%25D0%25BA%25D0%25B0)&amp;action=edit&amp;redlink=1" TargetMode="External"/><Relationship Id="rId3" Type="http://schemas.openxmlformats.org/officeDocument/2006/relationships/hyperlink" Target="file:///F:/wiki/3_%25D0%25B8%25D1%258E%25D0%25BD%25D1%258F" TargetMode="External"/><Relationship Id="rId4" Type="http://schemas.openxmlformats.org/officeDocument/2006/relationships/hyperlink" Target="file:///F:/wiki/2007" TargetMode="External"/><Relationship Id="rId5" Type="http://schemas.openxmlformats.org/officeDocument/2006/relationships/hyperlink" Target="file:///F:/wiki/%25D0%25A1%25D0%25B5%25D0%25BB%25D1%258C" TargetMode="External"/><Relationship Id="rId6" Type="http://schemas.openxmlformats.org/officeDocument/2006/relationships/hyperlink" Target="file:///F:/wiki/%25D0%2593%25D1%2580%25D1%258F%25D0%25B7%25D1%258C" TargetMode="External"/><Relationship Id="rId7" Type="http://schemas.openxmlformats.org/officeDocument/2006/relationships/hyperlink" Target="file:///F:/wiki/%25D0%259A%25D0%25B0%25D0%25BC%25D0%25B5%25D0%25BD%25D1%258C" TargetMode="External"/><Relationship Id="rId8" Type="http://schemas.openxmlformats.org/officeDocument/2006/relationships/hyperlink" Target="file:///F:/wiki/%25D0%2594%25D0%25B0%25D0%25BC%25D0%25B1%25D0%25B0" TargetMode="External"/><Relationship Id="rId9" Type="http://schemas.openxmlformats.org/officeDocument/2006/relationships/hyperlink" Target="file:///F:/wiki/%25D0%259E%25D0%25B7%25D0%25B5%25D1%2580%25D0%25BE" TargetMode="External"/><Relationship Id="rId10" Type="http://schemas.openxmlformats.org/officeDocument/2006/relationships/hyperlink" Target="file:///F:/wiki/%25D0%2592%25D0%25BE%25D0%25B4%25D0%25B0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0%25B7%25D0%25B0%25D0%25B8%25D1%2585%25D0%25B0_(%25D1%2580%25D0%25B5%25D0%25BA%25D0%25B0)" TargetMode="External"/><Relationship Id="rId2" Type="http://schemas.openxmlformats.org/officeDocument/2006/relationships/hyperlink" Target="file:///F:/wiki/%25D0%259C%25D0%25B0%25D0%25BD%25D0%25B0_(%25D1%2580%25D0%25B5%25D0%25BA%25D0%25B0)" TargetMode="External"/><Relationship Id="rId3" Type="http://schemas.openxmlformats.org/officeDocument/2006/relationships/hyperlink" Target="file:///F:/wiki/%25D0%25A1%25D0%25B8%25D0%25B5%25D0%25BD%25D0%25B8%25D1%2582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Flag_of_Russia.svg" TargetMode="External"/><Relationship Id="rId2" Type="http://schemas.openxmlformats.org/officeDocument/2006/relationships/hyperlink" Target="file:///F:/wiki/%25D0%25A0%25D0%25BE%25D1%2581%25D1%2581%25D0%25B8%25D1%258F" TargetMode="External"/><Relationship Id="rId3" Type="http://schemas.openxmlformats.org/officeDocument/2006/relationships/hyperlink" Target="file:///F:/wiki/%25D0%259A%25D1%2580%25D0%25B0%25D1%2581%25D0%25BD%25D0%25BE%25D1%258F%25D1%2580%25D1%2581%25D0%25BA" TargetMode="External"/><Relationship Id="rId4" Type="http://schemas.openxmlformats.org/officeDocument/2006/relationships/hyperlink" Target="file:///F:/wiki/%25D0%2593%25D0%25B0" TargetMode="External"/><Relationship Id="rId5" Type="http://schemas.openxmlformats.org/officeDocument/2006/relationships/hyperlink" Target="file:///F:/wiki/1925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wiki/27_%25D0%25B4%25D0%25B5%25D0%25BA%25D0%25B0%25D0%25B1%25D1%2580%25D1%258F" TargetMode="External"/><Relationship Id="rId2" Type="http://schemas.openxmlformats.org/officeDocument/2006/relationships/hyperlink" Target="file:///F:/wiki/1989_%25D0%25B3%25D0%25BE%25D0%25B4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0%25D0%25BF%25D0%25BE%25D0%25B2%25D0%25B5%25D0%25B4%25D0%25BD%25D0%25B8%25D0%25BA" TargetMode="External"/><Relationship Id="rId2" Type="http://schemas.openxmlformats.org/officeDocument/2006/relationships/hyperlink" Target="file:///F:/wiki/%25D0%259F%25D0%25B5%25D0%25BD%25D0%25B7%25D0%25B5%25D0%25BD%25D1%2581%25D0%25BA%25D0%25B0%25D1%258F_%25D0%25BE%25D0%25B1%25D0%25BB%25D0%25B0%25D1%2581%25D1%2582%25D1%258C" TargetMode="External"/><Relationship Id="rId3" Type="http://schemas.openxmlformats.org/officeDocument/2006/relationships/hyperlink" Target="file:///F:/wiki/%25D0%259F%25D0%25BE%25D0%25B2%25D0%25BE%25D0%25BB%25D0%25B6%25D1%258C%25D0%25B5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A1%25D1%2582%25D0%25B5%25D0%25BF%25D1%258C" TargetMode="External"/><Relationship Id="rId6" Type="http://schemas.openxmlformats.org/officeDocument/2006/relationships/hyperlink" Target="file:///F:/wiki/%25D0%25A3%25D0%25BB%25D1%258C%25D1%258F%25D0%25BD%25D0%25BE%25D0%25B2%25D1%2581%25D0%25BA%25D0%25B0%25D1%258F_%25D0%25BE%25D0%25B1%25D0%25BB%25D0%25B0%25D1%2581%25D1%2582%25D1%258C" TargetMode="External"/><Relationship Id="rId7" Type="http://schemas.openxmlformats.org/officeDocument/2006/relationships/hyperlink" Target="file:///F:/wiki/%25D0%259F%25D1%2580%25D0%25B8%25D0%25B2%25D0%25BE%25D0%25BB%25D0%25B6%25D1%2581%25D0%25BA%25D0%25B0%25D1%258F_%25D0%25B2%25D0%25BE%25D0%25B7%25D0%25B2%25D1%258B%25D1%2588%25D0%25B5%25D0%25BD%25D0%25BD%25D0%25BE%25D1%2581%25D1%2582%25D1%258C" TargetMode="External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Privolzhskaya_lesostep_87.jpg" TargetMode="External"/><Relationship Id="rId2" Type="http://schemas.openxmlformats.org/officeDocument/2006/relationships/hyperlink" Target="file:///F:/wiki/%25D0%25A4%25D0%25BB%25D0%25BE%25D1%2580%25D0%25B0" TargetMode="External"/><Relationship Id="rId3" Type="http://schemas.openxmlformats.org/officeDocument/2006/relationships/hyperlink" Target="file:///F:/wiki/%25D0%25A1%25D0%25BE%25D1%2581%25D1%2583%25D0%25B4%25D0%25B8%25D1%2581%25D1%2582%25D1%258B%25D0%25B5_%25D1%2580%25D0%25B0%25D1%2581%25D1%2582%25D0%25B5%25D0%25BD%25D0%25B8%25D1%258F" TargetMode="External"/><Relationship Id="rId4" Type="http://schemas.openxmlformats.org/officeDocument/2006/relationships/hyperlink" Target="file:///F:/wiki/%25D0%259B%25D0%25B8%25D1%2588%25D0%25B0%25D0%25B9%25D0%25BD%25D0%25B8%25D0%25BA" TargetMode="External"/><Relationship Id="rId5" Type="http://schemas.openxmlformats.org/officeDocument/2006/relationships/hyperlink" Target="file:///F:/wiki/%25D0%259C%25D0%25BE%25D1%2585%25D0%25BE%25D0%25BE%25D0%25B1%25D1%2580%25D0%25B0%25D0%25B7%25D0%25BD%25D1%258B%25D0%25B5" TargetMode="External"/><Relationship Id="rId6" Type="http://schemas.openxmlformats.org/officeDocument/2006/relationships/hyperlink" Target="file:///F:/wiki/%25D0%2593%25D1%2580%25D0%25B8%25D0%25B1" TargetMode="External"/><Relationship Id="rId7" Type="http://schemas.openxmlformats.org/officeDocument/2006/relationships/hyperlink" Target="file:///F:/w/index.php%3Ftitle=%25D0%25A1%25D1%2580%25D0%25B5%25D0%25B4%25D0%25BD%25D0%25B5%25D0%25B5_%25D0%259F%25D0%25BE%25D0%25B2%25D0%25BE%25D0%25BB%25D0%25B6%25D1%258C%25D0%25B5&amp;action=edit&amp;redlink=1" TargetMode="External"/><Relationship Id="rId8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9" Type="http://schemas.openxmlformats.org/officeDocument/2006/relationships/hyperlink" Target="file:///F:/w/index.php%3Ftitle=%25D0%259C%25D1%2583%25D1%2585%25D0%25BE%25D0%25BC%25D0%25BE%25D1%2580_%25D1%2588%25D0%25B8%25D1%2588%25D0%25BA%25D0%25BE%25D0%25B2%25D0%25B8%25D0%25B4%25D0%25BD%25D1%258B%25D0%25B9&amp;action=edit&amp;redlink=1" TargetMode="External"/><Relationship Id="rId10" Type="http://schemas.openxmlformats.org/officeDocument/2006/relationships/hyperlink" Target="file:///F:/w/index.php%3Ftitle=%25D0%25A0%25D1%258F%25D0%25B1%25D1%2587%25D0%25B8%25D0%25BA_%25D1%2580%25D1%2583%25D1%2581%25D1%2581%25D0%25BA%25D0%25B8%25D0%25B9&amp;action=edit&amp;redlink=1" TargetMode="External"/><Relationship Id="rId11" Type="http://schemas.openxmlformats.org/officeDocument/2006/relationships/hyperlink" Target="file:///F:/w/index.php%3Ftitle=%25D0%259D%25D0%25B5%25D0%25BE%25D1%2582%25D1%2582%25D0%25B8%25D0%25B0%25D0%25BD%25D1%2582%25D0%25B0_%25D0%25BA%25D0%25BB%25D0%25BE%25D0%25B1%25D1%2583%25D1%2587%25D0%25BA%25D0%25BE%25D0%25B2%25D0%25B0%25D1%258F&amp;action=edit&amp;redlink=1" TargetMode="External"/><Relationship Id="rId12" Type="http://schemas.openxmlformats.org/officeDocument/2006/relationships/hyperlink" Target="file:///F:/w/index.php%3Ftitle=%25D0%259F%25D1%258B%25D0%25BB%25D1%258C%25D1%2586%25D0%25B5%25D0%25B3%25D0%25BE%25D0%25BB%25D0%25BE%25D0%25B2%25D0%25BD%25D0%25B8%25D0%25BA_%25D0%25BA%25D1%2580%25D0%25B0%25D1%2581%25D0%25BD%25D1%258B%25D0%25B9&amp;action=edit&amp;redlink=1" TargetMode="External"/><Relationship Id="rId13" Type="http://schemas.openxmlformats.org/officeDocument/2006/relationships/hyperlink" Target="file:///F:/w/index.php%3Ftitle=%25D0%259D%25D0%25B0%25D0%25B4%25D0%25B1%25D0%25BE%25D1%2580%25D0%25BE%25D0%25B4%25D0%25BD%25D0%25B8%25D0%25BA_%25D0%25B1%25D0%25B5%25D0%25B7%25D0%25BB%25D0%25B8%25D1%2581%25D1%2582%25D0%25BD%25D1%258B%25D0%25B9&amp;action=edit&amp;redlink=1" TargetMode="External"/><Relationship Id="rId14" Type="http://schemas.openxmlformats.org/officeDocument/2006/relationships/hyperlink" Target="file:///F:/wiki/%25D0%259A%25D0%25BE%25D0%25B2%25D1%258B%25D0%25BB%25D1%258C" TargetMode="External"/><Relationship Id="rId15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16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17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18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19" Type="http://schemas.openxmlformats.org/officeDocument/2006/relationships/hyperlink" Target="file:///F:/w/index.php%3Ftitle=%25D0%259A%25D1%2580%25D0%25B0%25D1%2581%25D0%25BD%25D0%25B0%25D1%258F_%25D0%25BA%25D0%25BD%25D0%25B8%25D0%25B3%25D0%25B0_%25D0%259F%25D0%25B5%25D0%25BD%25D0%25B7%25D0%25B5%25D0%25BD%25D1%2581%25D0%25BA%25D0%25BE%25D0%25B9_%25D0%25BE%25D0%25B1%25D0%25BB%25D0%25B0%25D1%2581%25D1%2582%25D0%25B8&amp;action=edit&amp;redlink=1" TargetMode="External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F:/wiki/%25D0%25A0%25D1%258B%25D0%25B1%25D1%258B" TargetMode="External"/><Relationship Id="rId2" Type="http://schemas.openxmlformats.org/officeDocument/2006/relationships/hyperlink" Target="file:///F:/wiki/%25D0%2593%25D0%25BE%25D0%25BB%25D1%258C%25D1%258F%25D0%25BD" TargetMode="External"/><Relationship Id="rId3" Type="http://schemas.openxmlformats.org/officeDocument/2006/relationships/hyperlink" Target="file:///F:/wiki/%25D0%2593%25D0%25BE%25D0%25BB%25D0%25B5%25D1%2586_(%25D1%2580%25D1%258B%25D0%25B1%25D0%25B0)" TargetMode="External"/><Relationship Id="rId4" Type="http://schemas.openxmlformats.org/officeDocument/2006/relationships/hyperlink" Target="file:///F:/wiki/%25D0%2593%25D0%25BE%25D0%25BB%25D0%25B0%25D0%25B2%25D0%25BB%25D1%258C" TargetMode="External"/><Relationship Id="rId5" Type="http://schemas.openxmlformats.org/officeDocument/2006/relationships/hyperlink" Target="file:///F:/wiki/%25D0%259E%25D0%25BA%25D1%2583%25D0%25BD%25D1%258C" TargetMode="External"/><Relationship Id="rId6" Type="http://schemas.openxmlformats.org/officeDocument/2006/relationships/hyperlink" Target="file:///F:/w/index.php%3Ftitle=%25D0%259A%25D0%25B0%25D1%2580%25D0%25B0%25D1%2581%25D1%258C_%25D0%25B7%25D0%25BE%25D0%25BB%25D0%25BE%25D1%2582%25D0%25BE%25D0%25B9&amp;action=edit&amp;redlink=1" TargetMode="External"/><Relationship Id="rId7" Type="http://schemas.openxmlformats.org/officeDocument/2006/relationships/hyperlink" Target="file:///F:/wiki/%25D0%259F%25D0%25BB%25D0%25BE%25D1%2582%25D0%25B2%25D0%25B0" TargetMode="External"/><Relationship Id="rId8" Type="http://schemas.openxmlformats.org/officeDocument/2006/relationships/hyperlink" Target="file:///F:/wiki/%25D0%2592%25D1%258C%25D1%258E%25D0%25BD" TargetMode="External"/><Relationship Id="rId9" Type="http://schemas.openxmlformats.org/officeDocument/2006/relationships/hyperlink" Target="file:///F:/wiki/%25D0%259D%25D0%25B0%25D0%25BB%25D0%25B8%25D0%25BC" TargetMode="External"/><Relationship Id="rId10" Type="http://schemas.openxmlformats.org/officeDocument/2006/relationships/hyperlink" Target="file:///F:/wiki/%25D0%25A9%25D1%2583%25D0%25BA%25D0%25B0" TargetMode="External"/><Relationship Id="rId11" Type="http://schemas.openxmlformats.org/officeDocument/2006/relationships/hyperlink" Target="file:///F:/wiki/%25D0%25AF%25D0%25B7%25D1%258C" TargetMode="External"/><Relationship Id="rId12" Type="http://schemas.openxmlformats.org/officeDocument/2006/relationships/hyperlink" Target="file:///F:/wiki/%25D0%259B%25D0%25B8%25D0%25BD%25D1%258C" TargetMode="External"/><Relationship Id="rId13" Type="http://schemas.openxmlformats.org/officeDocument/2006/relationships/hyperlink" Target="file:///F:/wiki/%25D0%259B%25D0%25B5%25D1%2589" TargetMode="External"/><Relationship Id="rId14" Type="http://schemas.openxmlformats.org/officeDocument/2006/relationships/hyperlink" Target="file:///F:/wiki/%25D0%2592%25D0%25B5%25D1%2580%25D1%2585%25D0%25BE%25D0%25B2%25D0%25BA%25D0%25B0" TargetMode="External"/><Relationship Id="rId15" Type="http://schemas.openxmlformats.org/officeDocument/2006/relationships/hyperlink" Target="file:///F:/wiki/%25D0%25A3%25D0%25BA%25D0%25BB%25D0%25B5%25D0%25B9%25D0%25BA%25D0%25B0" TargetMode="External"/><Relationship Id="rId16" Type="http://schemas.openxmlformats.org/officeDocument/2006/relationships/hyperlink" Target="file:///F:/wiki/%25D0%2595%25D0%25BB%25D0%25B5%25D1%2586" TargetMode="External"/><Relationship Id="rId17" Type="http://schemas.openxmlformats.org/officeDocument/2006/relationships/hyperlink" Target="file:///F:/wiki/%25D0%259F%25D0%25B5%25D1%2581%25D0%25BA%25D0%25B0%25D1%2580%25D1%258C" TargetMode="External"/><Relationship Id="rId18" Type="http://schemas.openxmlformats.org/officeDocument/2006/relationships/hyperlink" Target="file:///F:/wiki/%25D0%2595%25D1%2580%25D1%2588" TargetMode="Externa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2" Type="http://schemas.openxmlformats.org/officeDocument/2006/relationships/hyperlink" Target="file:///F:/wiki/%25D0%259A%25D0%25BE%25D0%25B2%25D1%258B%25D0%25BB%25D1%258C" TargetMode="External"/><Relationship Id="rId3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4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5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6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F%25D0%25BE%25D0%25BB%25D0%25B5%25D0%25B2%25D0%25BA%25D0%25B0_%25D0%25B5%25D0%25B2%25D1%2580%25D0%25BE%25D0%25BF%25D0%25B5%25D0%25B9%25D1%2581%25D0%25BA%25D0%25B0%25D1%258F_%25D1%2580%25D1%258B%25D0%25B6%25D0%25B0%25D1%258F&amp;action=edit&amp;redlink=1" TargetMode="External"/><Relationship Id="rId2" Type="http://schemas.openxmlformats.org/officeDocument/2006/relationships/hyperlink" Target="file:///F:/w/index.php%3Ftitle=%25D0%259C%25D1%258B%25D1%2588%25D1%258C_%25D0%25BB%25D0%25B5%25D1%2581%25D0%25BD%25D0%25B0%25D1%258F&amp;action=edit&amp;redlink=1" TargetMode="External"/><Relationship Id="rId3" Type="http://schemas.openxmlformats.org/officeDocument/2006/relationships/hyperlink" Target="file:///F:/w/index.php%3Ftitle=%25D0%2596%25D0%25B5%25D0%25BB%25D1%2582%25D0%25BE%25D0%25B3%25D0%25BE%25D1%2580%25D0%25BB%25D0%25B0%25D1%258F_%25D0%25BC%25D1%258B%25D1%2588%25D1%258C&amp;action=edit&amp;redlink=1" TargetMode="External"/><Relationship Id="rId4" Type="http://schemas.openxmlformats.org/officeDocument/2006/relationships/hyperlink" Target="file:///F:/w/index.php%3Ftitle=%25D0%2591%25D1%2583%25D1%2580%25D0%25BE%25D0%25B7%25D1%2583%25D0%25B1%25D0%25BA%25D0%25B0_%25D0%25BE%25D0%25B1%25D1%258B%25D0%25BA%25D0%25BD%25D0%25BE%25D0%25B2%25D0%25B5%25D0%25BD%25D0%25BD%25D0%25B0%25D1%258F&amp;action=edit&amp;redlink=1" TargetMode="External"/><Relationship Id="rId5" Type="http://schemas.openxmlformats.org/officeDocument/2006/relationships/hyperlink" Target="file:///F:/wiki/%25D0%259A%25D1%2583%25D0%25BD%25D0%25B8%25D1%2586%25D0%25B0_%25D0%25BB%25D0%25B5%25D1%2581%25D0%25BD%25D0%25B0%25D1%258F" TargetMode="External"/><Relationship Id="rId6" Type="http://schemas.openxmlformats.org/officeDocument/2006/relationships/hyperlink" Target="file:///F:/wiki/%25D0%2591%25D0%25B0%25D1%2580%25D1%2581%25D1%2583%25D0%25BA" TargetMode="External"/><Relationship Id="rId7" Type="http://schemas.openxmlformats.org/officeDocument/2006/relationships/hyperlink" Target="file:///F:/wiki/%25D0%2597%25D0%25B0%25D1%258F%25D1%2586" TargetMode="External"/><Relationship Id="rId8" Type="http://schemas.openxmlformats.org/officeDocument/2006/relationships/hyperlink" Target="file:///F:/wiki/%25D0%259B%25D0%25BE%25D1%2581%25D1%258C" TargetMode="External"/><Relationship Id="rId9" Type="http://schemas.openxmlformats.org/officeDocument/2006/relationships/hyperlink" Target="file:///F:/wiki/%25D0%259A%25D0%25B0%25D0%25B1%25D0%25B0%25D0%25BD" TargetMode="External"/><Relationship Id="rId10" Type="http://schemas.openxmlformats.org/officeDocument/2006/relationships/hyperlink" Target="file:///F:/wiki/%25D0%259F%25D0%25BE%25D0%25BB%25D1%2591%25D0%25B2%25D0%25BA%25D0%25B0_%25D0%25BE%25D0%25B1%25D1%258B%25D0%25BA%25D0%25BD%25D0%25BE%25D0%25B2%25D0%25B5%25D0%25BD%25D0%25BD%25D0%25B0%25D1%258F" TargetMode="External"/><Relationship Id="rId11" Type="http://schemas.openxmlformats.org/officeDocument/2006/relationships/hyperlink" Target="file:///F:/w/index.php%3Ftitle=%25D0%25A1%25D0%25BB%25D0%25B5%25D0%25BF%25D1%258B%25D1%2588&amp;action=edit&amp;redlink=1" TargetMode="External"/><Relationship Id="rId12" Type="http://schemas.openxmlformats.org/officeDocument/2006/relationships/hyperlink" Target="file:///F:/wiki/%25D0%259F%25D0%25B5%25D1%2581%25D1%2582%25D1%2580%25D1%2583%25D1%2588%25D0%25BA%25D0%25B0_%25D1%2581%25D1%2582%25D0%25B5%25D0%25BF%25D0%25BD%25D0%25B0%25D1%258F" TargetMode="External"/><Relationship Id="rId13" Type="http://schemas.openxmlformats.org/officeDocument/2006/relationships/hyperlink" Target="file:///F:/wiki/%25D0%25A2%25D1%2583%25D1%2588%25D0%25BA%25D0%25B0%25D0%25BD%25D1%2587%25D0%25B8%25D0%25BA_%25D0%25B1%25D0%25BE%25D0%25BB%25D1%258C%25D1%2588%25D0%25BE%25D0%25B9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0%25BB%25D0%25BE%25D0%25B5_%25D0%25BC%25D0%25BE%25D1%2580%25D0%25B5" TargetMode="External"/><Relationship Id="rId2" Type="http://schemas.openxmlformats.org/officeDocument/2006/relationships/hyperlink" Target="file:///F:/wiki/%25D0%259E%25D0%25BD%25D0%25B5%25D0%25B6%25D1%2581%25D0%25BA%25D0%25B0%25D1%258F_%25D0%25B3%25D1%2583%25D0%25B1%25D0%25B0" TargetMode="External"/><Relationship Id="rId3" Type="http://schemas.openxmlformats.org/officeDocument/2006/relationships/slide" Target=""/><Relationship Id="rId4" Type="http://schemas.openxmlformats.org/officeDocument/2006/relationships/hyperlink" Target="file:///F:/w/index.php%3Ftitle=%25D0%2591%25D0%25BE%25D0%25BB%25D1%258C%25D1%2588%25D0%25BE%25D0%25B9_%25D0%25A1%25D0%25BE%25D0%25BB%25D0%25BE%25D0%25B2%25D0%25B5%25D1%2586%25D0%25BA%25D0%25B8%25D0%25B9_%25D0%25BE%25D1%2581%25D1%2582%25D1%2580%25D0%25BE%25D0%25B2&amp;action=edit&amp;redlink=1" TargetMode="External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2" Type="http://schemas.openxmlformats.org/officeDocument/2006/relationships/hyperlink" Target="file:///F:/wiki/%25D0%25A5%25D0%25B0%25D0%25BD%25D0%25BA%25D0%25B0" TargetMode="External"/><Relationship Id="rId3" Type="http://schemas.openxmlformats.org/officeDocument/2006/relationships/hyperlink" Target="file:///F:/wiki/%25D0%25AF%25D0%25BF%25D0%25BE%25D0%25BD%25D1%2581%25D0%25BA%25D0%25B8%25D0%25B9_%25D0%25B6%25D1%2583%25D1%2580%25D0%25B0%25D0%25B2%25D0%25BB%25D1%258C" TargetMode="External"/><Relationship Id="rId4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5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6" Type="http://schemas.openxmlformats.org/officeDocument/2006/relationships/hyperlink" Target="file:///F:/wiki/%25D0%259A%25D0%25BE%25D0%25BB%25D0%25BF%25D0%25B8%25D1%2586%25D0%25B0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60;&#1072;&#1081;&#1083;:Nipponia_nippon.png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ru.wikipedia.org/wiki/&#1060;&#1072;&#1081;&#1083;:Loeffler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D%25D0%25B2%25D1%2580%25D0%25B8%25D0%25B0%25D0%25BB%25D0%25B0_%25D1%2583%25D1%2581%25D1%2582%25D1%2580%25D0%25B0%25D1%2588%25D0%25B0%25D1%258E%25D1%2589%25D0%25B0%25D1%258F&amp;action=edit&amp;redlink=1" TargetMode="External"/><Relationship Id="rId2" Type="http://schemas.openxmlformats.org/officeDocument/2006/relationships/hyperlink" Target="file:///F:/wiki/%25D0%259B%25D0%25BE%25D1%2582%25D0%25BE%25D1%2581_%25D0%259A%25D0%25BE%25D0%25BC%25D0%25B0%25D1%2580%25D0%25BE%25D0%25B2%25D0%25B0" TargetMode="External"/><Relationship Id="rId3" Type="http://schemas.openxmlformats.org/officeDocument/2006/relationships/hyperlink" Target="file:///F:/wiki/%25D0%2591%25D1%2580%25D0%25B0%25D0%25B7%25D0%25B5%25D0%25BD%25D0%25B8%25D1%258F_%25D0%25A8%25D1%2580%25D0%25B5%25D0%25B1%25D0%25B5%25D1%2580%25D0%25B0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aseniaAl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поведники Росс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хотэ-Алинский заповед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ихотэ́-Али́нский государственный биосферный природный 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был организован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ода и является уникальной природной сокровищницей России. Первоначальная цель его создания - сохранение и восстановление почти истреблённого в то врем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собол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 настоящее время заповедник представляет собой наиболее удобное место для проведения наблюдений з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мурским тигр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Сихотэ-Алинский заповедник был также первым природным парком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м Восток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ключённы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ЮНЕСКО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о всемирную систему биосферных заповед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10" descr="Zap emblem.jpg"/>
          <p:cNvPicPr/>
          <p:nvPr/>
        </p:nvPicPr>
        <p:blipFill>
          <a:blip r:embed="rId6"/>
          <a:stretch/>
        </p:blipFill>
        <p:spPr>
          <a:xfrm>
            <a:off x="4932360" y="2119320"/>
            <a:ext cx="3600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храняемые виды растен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шмачок крупноцветков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Башмачок настоящ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ородатка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рец сихотин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руша уссурий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Диоскорея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маниха высо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асатик мечевидн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отовник манчь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Кубышка мал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Курильский чай маньч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лия даур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илия двурядн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Лимонник китай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Лиственница ольги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еньш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монник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нерин башмачо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Женьшен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8" descr="180px-Schisandra_sinensis_flower"/>
          <p:cNvPicPr/>
          <p:nvPr/>
        </p:nvPicPr>
        <p:blipFill>
          <a:blip r:embed="rId16"/>
          <a:stretch/>
        </p:blipFill>
        <p:spPr>
          <a:xfrm>
            <a:off x="5651640" y="2492280"/>
            <a:ext cx="2305080" cy="17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енерин башмачок настоящий и другие орхидеи средней Карелии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51280" y="39337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ginseng"/>
          <p:cNvPicPr/>
          <p:nvPr/>
        </p:nvPicPr>
        <p:blipFill>
          <a:blip r:embed="rId19"/>
          <a:stretch/>
        </p:blipFill>
        <p:spPr>
          <a:xfrm>
            <a:off x="6012000" y="4653000"/>
            <a:ext cx="23032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животных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180px-Siberian-Tiger"/>
          <p:cNvPicPr/>
          <p:nvPr/>
        </p:nvPicPr>
        <p:blipFill>
          <a:blip r:embed="rId1"/>
          <a:stretch/>
        </p:blipFill>
        <p:spPr>
          <a:xfrm>
            <a:off x="395280" y="3573360"/>
            <a:ext cx="3487680" cy="185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лекопитающ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Тигр амур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ос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ималайский медв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Аист чёр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Бек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8" descr="Горал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1052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Гималайский медведь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218592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Обыкновенный бекас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510696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АИСТ ЧЁРНЫЙ"/>
          <p:cNvPicPr/>
          <p:nvPr/>
        </p:nvPicPr>
        <p:blipFill>
          <a:blip r:embed="rId15"/>
          <a:stretch/>
        </p:blipFill>
        <p:spPr>
          <a:xfrm>
            <a:off x="2411280" y="494172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азов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положен в Южном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ь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 востоку от долины ре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иев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 территори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азовского райо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риморского кр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928 году сформирован ка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заказ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а в 1957 году преобразован в самостоятельный заповедни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нимает площадь в 120 989 га. Климат на его территории носи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муссо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характер. Лесами занято 96% территории заповедника. Крупнейшая роща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с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Дальнем Восток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Лазовский заповедник (Россия)"/>
          <p:cNvPicPr/>
          <p:nvPr/>
        </p:nvPicPr>
        <p:blipFill>
          <a:blip r:embed="rId8"/>
          <a:stretch/>
        </p:blipFill>
        <p:spPr>
          <a:xfrm>
            <a:off x="539640" y="3457440"/>
            <a:ext cx="4032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раняемые виды млекопитающ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Амурский 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игантская бурозуб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восточный леопар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 настоящий момент не встречаетс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длиннокры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ссурийский 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малайский медвед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8" descr="180px-Ursus_thibetanus_Phila"/>
          <p:cNvPicPr/>
          <p:nvPr/>
        </p:nvPicPr>
        <p:blipFill>
          <a:blip r:embed="rId7"/>
          <a:stretch/>
        </p:blipFill>
        <p:spPr>
          <a:xfrm>
            <a:off x="4859280" y="22478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птиц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Дальневосточный кроншнеп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Даурский журавл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Дроф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Египетск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Желтоклюв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локту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олп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рече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ншнеп ,колпиц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8" descr="180px-Mandarin"/>
          <p:cNvPicPr/>
          <p:nvPr/>
        </p:nvPicPr>
        <p:blipFill>
          <a:blip r:embed="rId10"/>
          <a:stretch/>
        </p:blipFill>
        <p:spPr>
          <a:xfrm>
            <a:off x="5580000" y="4430880"/>
            <a:ext cx="3386160" cy="24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Кроншнепы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270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Колпица обыкновенная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16720" y="2421000"/>
            <a:ext cx="2330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Малая крач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л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еб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Нырок Бэ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фламинг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Орлан-белохвос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Охотский ули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искуль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Рогатая камышн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бный фили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апс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куль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мыш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пс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8" descr="180px-PeregrineFalcon"/>
          <p:cNvPicPr/>
          <p:nvPr/>
        </p:nvPicPr>
        <p:blipFill>
          <a:blip r:embed="rId12"/>
          <a:stretch/>
        </p:blipFill>
        <p:spPr>
          <a:xfrm>
            <a:off x="6656400" y="4076640"/>
            <a:ext cx="221472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КРАЧКА МАЛАЯ"/>
          <p:cNvPicPr/>
          <p:nvPr/>
        </p:nvPicPr>
        <p:blipFill>
          <a:blip r:embed="rId13"/>
          <a:stretch/>
        </p:blipFill>
        <p:spPr>
          <a:xfrm>
            <a:off x="179280" y="936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ЛЕБЕДЬ МАЛЫЙ"/>
          <p:cNvPicPr/>
          <p:nvPr/>
        </p:nvPicPr>
        <p:blipFill>
          <a:blip r:embed="rId14"/>
          <a:stretch/>
        </p:blipFill>
        <p:spPr>
          <a:xfrm>
            <a:off x="2556000" y="189000"/>
            <a:ext cx="2663640" cy="173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Qtqy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500720" y="765000"/>
            <a:ext cx="26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Орлан-белохвост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27920" y="1125360"/>
            <a:ext cx="2116080" cy="158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Рогатая камышница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987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Ente unbekannt 1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62320" y="3046320"/>
            <a:ext cx="17413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рильский 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урильские ост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— цепь вулканических островов между полу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оккайд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отделяю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хотское мор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го океа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отяжённость — 1175 км. Площадь — 15,6 тыс. км². Имеют важное военно-стратегическое и большое экономическое значение. Включают 20 крупных и более 30 мелких островов. В настоящий момент все Курильские острова контролиру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Росси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входят в её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ахалинскую обла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42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урильские острова — это типичная энсиматичес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островная дуг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на краю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хотской пли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на находится над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зоной субдук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которой поглощаетс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океанская плит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Бо́льшая часть островов гориста. Наибольшая высота 2339 м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стров Атлас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улк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Алаи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коло 40 действующи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улкан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; горяч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минеральные источник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Высо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ейсмичност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хоокеанское вулканическое огненное кольц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 Нередки крупны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цуна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тров Атласо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8" descr="180px-Atlasovisland"/>
          <p:cNvPicPr/>
          <p:nvPr/>
        </p:nvPicPr>
        <p:blipFill>
          <a:blip r:embed="rId12"/>
          <a:stretch/>
        </p:blipFill>
        <p:spPr>
          <a:xfrm>
            <a:off x="4284720" y="2287440"/>
            <a:ext cx="460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акланы на острове Шумш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24360" y="119700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остров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и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мелкие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рызу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количество птиц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ржан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чай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ут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к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буревестни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альбатро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воробь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ов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окол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ругие. Мно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тичьих коло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брежный подводный мир, в отличие от островов, не только многочисленен, но и весьма разнообразен. В прибрежных вод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ерп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косат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сивуч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промысловое значение имеют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рыб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раб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моллюс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льмар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рак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2"/>
              </a:rPr>
              <a:t>трепанг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3"/>
              </a:rPr>
              <a:t>морские огур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4"/>
              </a:rPr>
              <a:t>морские еж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5"/>
              </a:rPr>
              <a:t>морская капус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6"/>
              </a:rPr>
              <a:t>кит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Моря, омывающие берега Сахалина и Курилов, являются одним из наиболе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5" descr="180px-212_1264_Baklany_Shumshu"/>
          <p:cNvPicPr/>
          <p:nvPr/>
        </p:nvPicPr>
        <p:blipFill>
          <a:blip r:embed="rId27"/>
          <a:stretch/>
        </p:blipFill>
        <p:spPr>
          <a:xfrm>
            <a:off x="755640" y="2421000"/>
            <a:ext cx="263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ЛЬНЕВОСТОЧНЫЙ МОРСКО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ны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пове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льневосточный государственный морской заповедник был создан в соответсвии  24 марта 1978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оведник занимает часть акватории залива Петра Великого Японского моря, 12 небольших островов, а также участок материкового побережья и расположен на территории Приморского кра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7" descr="увеличить карту ООП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05160"/>
            <a:ext cx="3673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сат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ву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8" descr="СИВУЧ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526"/>
          <p:cNvPicPr/>
          <p:nvPr/>
        </p:nvPicPr>
        <p:blipFill>
          <a:blip r:embed="rId2"/>
          <a:stretch/>
        </p:blipFill>
        <p:spPr>
          <a:xfrm>
            <a:off x="4799160" y="2492280"/>
            <a:ext cx="3367080" cy="382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КОСАТКА"/>
          <p:cNvPicPr/>
          <p:nvPr/>
        </p:nvPicPr>
        <p:blipFill>
          <a:blip r:embed="rId3"/>
          <a:stretch/>
        </p:blipFill>
        <p:spPr>
          <a:xfrm>
            <a:off x="324000" y="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6880" y="369360"/>
            <a:ext cx="7961400" cy="97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ский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амча́т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северо-восточной част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тери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Евраз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 территори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Омывается с запада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хотски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с востока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еринговы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хим океан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луостров вытянут с северо-востока на юго-запад на 1200 км. Соединяется с материком узким (до 93 км)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ерешейк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Парапольским долом. Наибольшая ширина (до 440 км) — на широте мыса Кроноцк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ая площадь полуострова — 472,3 тыс. км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5160" y="1268280"/>
            <a:ext cx="4038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опограф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чат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17" descr="Топография Камчатки"/>
          <p:cNvPicPr/>
          <p:nvPr/>
        </p:nvPicPr>
        <p:blipFill>
          <a:blip r:embed="rId9"/>
          <a:stretch/>
        </p:blipFill>
        <p:spPr>
          <a:xfrm>
            <a:off x="5219640" y="1773360"/>
            <a:ext cx="28576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248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улкан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являются главными достопримечательностями полуострова Камчатка. Изображения вулканов фигурируют на флаге и герб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амчат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ранее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Камчатской обла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 город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тропавловск-Камчат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а также на большинстве сувениров, производящихся на Камчатк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55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улканы Шивелуч, Вилючинский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14" descr="180px-Shiveluch"/>
          <p:cNvPicPr/>
          <p:nvPr/>
        </p:nvPicPr>
        <p:blipFill>
          <a:blip r:embed="rId5"/>
          <a:stretch/>
        </p:blipFill>
        <p:spPr>
          <a:xfrm>
            <a:off x="5686560" y="2367000"/>
            <a:ext cx="3206520" cy="206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Вид на вулкан Вилючинская Сопка с северо-востока"/>
          <p:cNvPicPr/>
          <p:nvPr/>
        </p:nvPicPr>
        <p:blipFill>
          <a:blip r:embed="rId6"/>
          <a:stretch/>
        </p:blipFill>
        <p:spPr>
          <a:xfrm>
            <a:off x="4211640" y="4221000"/>
            <a:ext cx="3456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уну сухопутных млекопитающих составляют: камча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собол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рноста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выд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заяц-беля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ндат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лисиц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ло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еверный оле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нежный бара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полярный вол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росомах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ас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др. Фауне присущи некоторые черты островного характера: на Камчатке нет многих типичных для Восточной Сибири и Дальнего Востока таёжных животных, наприме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барг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дикуш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олько на самом севере края (в Пенжинском районе) встречае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белка-летяг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сравнительно недавно через Парапольский дол и далее к югу проник яку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бурунду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акже, как и рысь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30-е годы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XX ве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Из крупных хищных зверей лесной зоны самым заметным и самым известным видом был и остаё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мчатский бурый медвед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урый камчатский медведь весн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7" descr="250px-Brown-bear-in-spring"/>
          <p:cNvPicPr/>
          <p:nvPr/>
        </p:nvPicPr>
        <p:blipFill>
          <a:blip r:embed="rId21"/>
          <a:stretch/>
        </p:blipFill>
        <p:spPr>
          <a:xfrm>
            <a:off x="4500720" y="2133720"/>
            <a:ext cx="3743280" cy="251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БАРАН СНЕЖНЫЙ"/>
          <p:cNvPicPr/>
          <p:nvPr/>
        </p:nvPicPr>
        <p:blipFill>
          <a:blip r:embed="rId22"/>
          <a:stretch/>
        </p:blipFill>
        <p:spPr>
          <a:xfrm>
            <a:off x="4211640" y="4734000"/>
            <a:ext cx="238140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180px-Wolverine_on_rock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732720" y="494172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Martes zibellina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79280" y="189000"/>
            <a:ext cx="2619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ительный мир Камчатки насчитывает около 1200 видов сосудистых (высших) раст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 деревьев самая распространённая порода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реза Эрмана, или каменн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бразующая редкостойные леса по всему краю и доходящая на север до юга Корякского нагор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риллиум камчат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7" descr="250px-Tril2"/>
          <p:cNvPicPr/>
          <p:nvPr/>
        </p:nvPicPr>
        <p:blipFill>
          <a:blip r:embed="rId2"/>
          <a:stretch/>
        </p:blipFill>
        <p:spPr>
          <a:xfrm>
            <a:off x="5148360" y="1844640"/>
            <a:ext cx="2757240" cy="36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Берёза Эрм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81360"/>
            <a:ext cx="2619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ли́на ге́йзер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— это одно из наиболее крупных гейзерных полей мира, и единственное в Евразии. Долина Гейзеров расположена н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роноцком государственном биосферном заповедни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11" descr="гейзеры"/>
          <p:cNvPicPr/>
          <p:nvPr/>
        </p:nvPicPr>
        <p:blipFill>
          <a:blip r:embed="rId3"/>
          <a:stretch/>
        </p:blipFill>
        <p:spPr>
          <a:xfrm>
            <a:off x="4211640" y="3573360"/>
            <a:ext cx="4680000" cy="313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амчатский край на карте Росс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197000"/>
            <a:ext cx="3333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 слияния рек Гейзерная 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Шум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территории около 2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м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ходится около 20 крупны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ейзе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множество источников, периодически выбрасывающих фонтаны почти кипящей воды (более 95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°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или горяче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ар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лина гейзеров —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вулкан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ньон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шириной всего около дву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иломет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линой чуть более четырё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часть долины засыпана крупным оползн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7" descr="100px-Soviet_Union_stamp_1966_CPA_3449"/>
          <p:cNvPicPr/>
          <p:nvPr/>
        </p:nvPicPr>
        <p:blipFill>
          <a:blip r:embed="rId9"/>
          <a:stretch/>
        </p:blipFill>
        <p:spPr>
          <a:xfrm>
            <a:off x="6545160" y="1700280"/>
            <a:ext cx="186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айфун Эльза 1981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81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 тайфун Эльза вызвал дожди, по причине которых уровень воды в рек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йзерно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днялся на несколько метров. Грязевые потоки увлекали за собой по руслу трёхметровые валуны, разрушая всё на своём пути. Пострадали многие источники, включая знаменитый Малахитовый грот. Гейзер Большая Печка исчез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ель 2007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3 июн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2007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ода несколько мощ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еле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токов обрушились на долину, накрыв большую её часть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яз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мня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ерекрыв многие источники. Также образовалась естественн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дам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случае прорыва которой возможно образован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зе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которое покроет практически все источники слоем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воды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 action="ppaction://hlinksldjump"/>
              </a:rPr>
              <a:t>[3]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Находившиеся в долине туристы и персонал были срочно эвакуированы, поэтому жертв удалось избеж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Государственный природный заповедник «Столбы»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— расположен на северо-западных отрогах Восточного Саяна, граничащих со Средне-Сибирским плоскогорьем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тественными рубежами охраняемой территории являются правые притоки р. Енисей: на северо-востоке — рек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а юге и юго-западе — рек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иенито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танцев — «столбов». В настоящее время его площадь - 47 154 га. Представлен к Списку World Heritage Фонда всемирного наследия ЮНЕСКО; дожидается своей очеред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оложение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лижайший город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Красноярск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лощадь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7154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га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снован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192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5" descr="Zapovednik Stolby Krasnojarskij Kraj 03.jpg"/>
          <p:cNvPicPr/>
          <p:nvPr/>
        </p:nvPicPr>
        <p:blipFill>
          <a:blip r:embed="rId6"/>
          <a:stretch/>
        </p:blipFill>
        <p:spPr>
          <a:xfrm>
            <a:off x="82692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180px-Rock_in_Nature_Reserve_Stolby"/>
          <p:cNvPicPr/>
          <p:nvPr/>
        </p:nvPicPr>
        <p:blipFill>
          <a:blip r:embed="rId7"/>
          <a:stretch/>
        </p:blipFill>
        <p:spPr>
          <a:xfrm>
            <a:off x="6516720" y="184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lipboard02.jpg"/>
          <p:cNvPicPr/>
          <p:nvPr/>
        </p:nvPicPr>
        <p:blipFill>
          <a:blip r:embed="rId8"/>
          <a:stretch/>
        </p:blipFill>
        <p:spPr>
          <a:xfrm>
            <a:off x="3708360" y="4076640"/>
            <a:ext cx="2290680" cy="17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Zapovednik Stolby Krasnojarskij Kraj 05.jpg"/>
          <p:cNvPicPr/>
          <p:nvPr/>
        </p:nvPicPr>
        <p:blipFill>
          <a:blip r:embed="rId9"/>
          <a:stretch/>
        </p:blipFill>
        <p:spPr>
          <a:xfrm>
            <a:off x="4595760" y="198900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Zapovednik Stolby Krasnojarskij Kraj 15.jpg"/>
          <p:cNvPicPr/>
          <p:nvPr/>
        </p:nvPicPr>
        <p:blipFill>
          <a:blip r:embed="rId10"/>
          <a:stretch/>
        </p:blipFill>
        <p:spPr>
          <a:xfrm>
            <a:off x="1332000" y="4292640"/>
            <a:ext cx="1191960" cy="15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Zapovednik Stolby Krasnojarskij Kraj 01.jpg"/>
          <p:cNvPicPr/>
          <p:nvPr/>
        </p:nvPicPr>
        <p:blipFill>
          <a:blip r:embed="rId11"/>
          <a:stretch/>
        </p:blipFill>
        <p:spPr>
          <a:xfrm>
            <a:off x="6684840" y="4005360"/>
            <a:ext cx="13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морском заповеднике 11 больших и малых остров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островах есть скалы, песчаные пляжи, ле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m2"/>
          <p:cNvPicPr/>
          <p:nvPr/>
        </p:nvPicPr>
        <p:blipFill>
          <a:blip r:embed="rId1"/>
          <a:stretch/>
        </p:blipFill>
        <p:spPr>
          <a:xfrm>
            <a:off x="1258920" y="3141720"/>
            <a:ext cx="280044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3"/>
          <p:cNvPicPr/>
          <p:nvPr/>
        </p:nvPicPr>
        <p:blipFill>
          <a:blip r:embed="rId2"/>
          <a:stretch/>
        </p:blipFill>
        <p:spPr>
          <a:xfrm>
            <a:off x="6443640" y="907920"/>
            <a:ext cx="23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3"/>
          <p:cNvPicPr/>
          <p:nvPr/>
        </p:nvPicPr>
        <p:blipFill>
          <a:blip r:embed="rId3"/>
          <a:stretch/>
        </p:blipFill>
        <p:spPr>
          <a:xfrm>
            <a:off x="4859280" y="4292640"/>
            <a:ext cx="3078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знецкий Алата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сударственный природный заповедник Кузнецкий Алатау созд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7 декабр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89 год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6" descr="250px-Kem-004"/>
          <p:cNvPicPr/>
          <p:nvPr/>
        </p:nvPicPr>
        <p:blipFill>
          <a:blip r:embed="rId3"/>
          <a:stretch/>
        </p:blipFill>
        <p:spPr>
          <a:xfrm>
            <a:off x="4716360" y="24066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риволжская лесостепь (заповедник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волжская лесостеп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— государственный природны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расположен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ензен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 лесостепной зоне Среднег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оволжь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Заповедник создан в 1989 году для сохранения уникальны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тепе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еверного типа. Заповедник состоит из 5 участков, разбросанных по всей Пензенской и частичн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льянов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на западных склона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риволжской возвышенно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общая площадь 8326 га.. Заповедник «Приволжская лесостепь» является природоохранным, научно-исследовательским и эколого-просветительским учреждением федерального значения, имеющим целью сохранение и изучение естественного хода природных процесс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6" descr="300px-Poperechenskaya_step"/>
          <p:cNvPicPr/>
          <p:nvPr/>
        </p:nvPicPr>
        <p:blipFill>
          <a:blip r:embed="rId8"/>
          <a:stretch/>
        </p:blipFill>
        <p:spPr>
          <a:xfrm>
            <a:off x="4643280" y="234936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стительность</a:t>
            </a:r>
            <a:br>
              <a:rPr sz="4000"/>
            </a:br>
            <a:r>
              <a:rPr b="1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Фло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заповедника чрезвычайно разнообразна. В настоящее время на его территории выявлено 825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осудистых растен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108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ишайник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72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мохообразных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119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иб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Все вместе они составляют более 60 % флоры Пензенской области и около 40 % видового состава флоры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Среднего Поволжь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ую книгу Росси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: 1 вид гриб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мухомор шишковид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и 8 видов сосудистых растений. Это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ябчик русск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неоттианта клобучкова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ыльцеголовник крас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адбородник без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4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овыле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опушенно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перист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красивейш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овыль Залесского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Ещё 53 вида сосудистых растений входит 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Красную книгу Пензенской област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2002 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5" descr="Privolzhskaya lesostep 87.jpg"/>
          <p:cNvPicPr/>
          <p:nvPr/>
        </p:nvPicPr>
        <p:blipFill>
          <a:blip r:embed="rId20"/>
          <a:stretch/>
        </p:blipFill>
        <p:spPr>
          <a:xfrm>
            <a:off x="4762440" y="2374920"/>
            <a:ext cx="4130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оём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водоемах заповедника и его охранной зоны пока обнаружено 17 видов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ры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лья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олавл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ку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арась золот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лотв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вью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нали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щу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яз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ещ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верхов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уклей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е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пескар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ерш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вы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расную книгу Росси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 вид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овыл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пушеннолистн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рист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ивейши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выль Залесског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Picture 7" descr="Privolzhskaya lesostep 51.jpg"/>
          <p:cNvPicPr/>
          <p:nvPr/>
        </p:nvPicPr>
        <p:blipFill>
          <a:blip r:embed="rId7"/>
          <a:stretch/>
        </p:blipFill>
        <p:spPr>
          <a:xfrm>
            <a:off x="4356000" y="232740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539640" y="3246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положение заповедника в лесостепной зоне определяет состав фауны, которая включает виды, типичные как для лесного зонального комплекса, так и для степного. К первым относя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евка европейская рыж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желтогорлая мыш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урозуб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уница 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рсу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яц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лос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аба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остоянными компонентами степей явля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олёв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лепыш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еструшка степ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тушканчик больш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друг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лов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е́цкие острова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ки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— архипелаг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лом мор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входе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нежскую губ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лощадь — 347 км². Это крупнейший архипелаг беломорского бассейна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Соловецкие острова состоят из шести крупных остров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(ил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льшой Соловец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остров — 246 км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архипелаг входит также более 100 малых остров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Picture 7" descr="645px-White Sea map ru.png"/>
          <p:cNvPicPr/>
          <p:nvPr/>
        </p:nvPicPr>
        <p:blipFill>
          <a:blip r:embed="rId5"/>
          <a:stretch/>
        </p:blipFill>
        <p:spPr>
          <a:xfrm>
            <a:off x="4356000" y="1947960"/>
            <a:ext cx="431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ловецкий государственный историко-архитектурный и природный музей-заповедни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1" name="Picture 4" descr="Вид на Большой Соловецкий остров"/>
          <p:cNvPicPr/>
          <p:nvPr/>
        </p:nvPicPr>
        <p:blipFill>
          <a:blip r:embed="rId1"/>
          <a:stretch/>
        </p:blipFill>
        <p:spPr>
          <a:xfrm>
            <a:off x="571680" y="2436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архипелаг, а также пятикилометровая акватория Белого моря включены в состав особо охраняемой территории — Федерального государственного учреждения «Соловецкий государственный историко-архитектурный и природный музей-заповедник». На Большом Соловецком острове находится зона строгой заповедности. Посещение этой зоны запреще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́льшая часть островов покрыта сосново-еловыми лесами, частично заболоченными. В прибрежной полосе наблюдаются богатые плантации водорослей, среди них ламинария, фукус, анфельция, которые имеют промышленное знач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ртина М.В.Несте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оловки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Picture 7" descr="180px-NesterovMV_Solovki1917LUG"/>
          <p:cNvPicPr/>
          <p:nvPr/>
        </p:nvPicPr>
        <p:blipFill>
          <a:blip r:embed="rId1"/>
          <a:stretch/>
        </p:blipFill>
        <p:spPr>
          <a:xfrm>
            <a:off x="4788000" y="2852640"/>
            <a:ext cx="3744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042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сурсы Интернет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ikipedia.or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eruditio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altshuller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timeout.u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www.apspb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friends.nnov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travel.ri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elementy.ru/ema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gazeta.aif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заповедник вернулся тюлень ларга, ранее совсем ушедший из Южного Приморья.В летнее время в заливе Петра Великого насчитывается до 80% всей популя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t4"/>
          <p:cNvPicPr/>
          <p:nvPr/>
        </p:nvPicPr>
        <p:blipFill>
          <a:blip r:embed="rId1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 более 350 ви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сурийский бак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ец серой цап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m1"/>
          <p:cNvPicPr/>
          <p:nvPr/>
        </p:nvPicPr>
        <p:blipFill>
          <a:blip r:embed="rId1"/>
          <a:stretch/>
        </p:blipFill>
        <p:spPr>
          <a:xfrm>
            <a:off x="971640" y="2205000"/>
            <a:ext cx="191268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8"/>
          <p:cNvPicPr/>
          <p:nvPr/>
        </p:nvPicPr>
        <p:blipFill>
          <a:blip r:embed="rId2"/>
          <a:stretch/>
        </p:blipFill>
        <p:spPr>
          <a:xfrm>
            <a:off x="3780000" y="2133720"/>
            <a:ext cx="2862000" cy="189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4"/>
          <p:cNvPicPr/>
          <p:nvPr/>
        </p:nvPicPr>
        <p:blipFill>
          <a:blip r:embed="rId3"/>
          <a:stretch/>
        </p:blipFill>
        <p:spPr>
          <a:xfrm>
            <a:off x="5796000" y="4149720"/>
            <a:ext cx="2574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анкай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положен в юго-западной част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занимает площадь 39 289 га, включает акваторию озер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ан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его побережье. Заповедник учрежден 28 декабря 1990 год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территории заповедника обитают 334 вида птиц, из них 140 видов гнездится в настоящее время, 44 вида занесены в Красную книгу России и 12 видов — в Международную Красную книгу, наиболее редкие виды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япон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урский журавл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лп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 др. Численность птиц в пиковые сезоны миграции (апрель, октябрь) достигает 2 миллион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урский журав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лп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асноногий иби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ли японский иби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ЖУРАВЛЬ ДАУРСКИЙ"/>
          <p:cNvPicPr/>
          <p:nvPr/>
        </p:nvPicPr>
        <p:blipFill>
          <a:blip r:embed="rId1"/>
          <a:stretch/>
        </p:blipFill>
        <p:spPr>
          <a:xfrm>
            <a:off x="1042920" y="270828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Красноногий иб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429000"/>
            <a:ext cx="2619360" cy="239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олпица обыкновенна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территории произрастает 49 редких и исчезающих видов растений (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эвриала устрашающ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отос Кома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разения Шребер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 др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12" descr="180px-Nelumbo_nucifera3"/>
          <p:cNvPicPr/>
          <p:nvPr/>
        </p:nvPicPr>
        <p:blipFill>
          <a:blip r:embed="rId4"/>
          <a:stretch/>
        </p:blipFill>
        <p:spPr>
          <a:xfrm>
            <a:off x="324000" y="260280"/>
            <a:ext cx="3527280" cy="37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Бразен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299736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вриала устрашающая примо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ем. Кувшинковые -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ходится под угрозой исчезновения, включена в список видов, требующих охраны (Редкие и исчезающие виды .... 1981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081"/>
          <p:cNvPicPr/>
          <p:nvPr/>
        </p:nvPicPr>
        <p:blipFill>
          <a:blip r:embed="rId1"/>
          <a:stretch/>
        </p:blipFill>
        <p:spPr>
          <a:xfrm>
            <a:off x="5292720" y="1341360"/>
            <a:ext cx="3333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00:21Z</dcterms:created>
  <dc:creator>Света</dc:creator>
  <dc:description/>
  <dc:language>en-US</dc:language>
  <cp:lastModifiedBy>Учитель</cp:lastModifiedBy>
  <dcterms:modified xsi:type="dcterms:W3CDTF">2013-05-06T16:54:14Z</dcterms:modified>
  <cp:revision>11</cp:revision>
  <dc:subject/>
  <dc:title>Заповедники России</dc:title>
</cp:coreProperties>
</file>